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7EBD1-39F2-473D-982A-DB2B589E5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6F1CA-4C3C-4F7A-BB60-9F23FB573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he first penguin, Professor Randy Pau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impossible to be perfect, Captaim Tim Sy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ack, Quellcrist Falco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FC741-B68A-4499-B019-0C6BBFCDD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E4D-B5CE-4E5E-A680-8C141CB3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EEE-0E98-4FBE-A35E-A3DD667D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810-5352-432A-9DD8-9E6BDE6C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105-61EF-4A75-B47C-F23907A4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2565-1B1A-4859-8B4D-74AEE6A7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9C20-2182-431A-9B3E-AACE7EBE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4651-3037-45AD-8878-470FACD6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77D6-2AD3-4E6C-834C-5822BB8A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86B0-5505-4D44-A402-F24B9D43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DCD2-DD1F-40F9-8E99-38C3D295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63A7-C688-4B07-9398-1C02292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BCA-A9CF-431B-B175-E55505E3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0960-DB17-4AA9-B406-DCF62206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6DBF-02E2-4798-A154-661BBB12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8FA4-DAE0-4DDC-8542-700AAC63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C47E-8A9E-41CC-95DF-D04683B4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E57C-3BD9-491D-8E5F-472EDEA4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873-1306-459E-9443-5AB7CB7E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A6C-2056-420E-BA8A-5C91EA9E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525-F99B-43AC-AB45-6902273A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8F9-4773-4E15-BFAA-CDD8AA8B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7A3-B3AD-49AE-A9B9-1AA06BC0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57A-D528-4309-A6AD-CE2656AA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4A9-9603-4D54-8106-C60F7ED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2837-1351-4C7F-AB00-F05050604C7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5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D431-4CD7-4EB7-AA4E-F179D614C98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protect.utexas.edu/health-and-wellness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BD36-610D-4F5D-9CBB-921117C0904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S314 Course Introductio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6760" y="1447560"/>
            <a:ext cx="86868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idn't expect a kind of Spanish Inqui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nal Ximinez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BODY expects the Spanish Inquisition! Our chief weapon is surprise...surprise and fear...fear and surprise.... Our two weapons are fear and surprise...and ruthless efficiency.... 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apons are fear, surprise, and ruthless efficiency...and an almost fanatical devotion to the Pope.... 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no..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r weapons.... Amongst our weaponry...are such diverse elements as fear, surprise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97080" y="4641840"/>
            <a:ext cx="4950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class: please close laptop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put away mobile de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Scott, Gates 6.304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m@cs.utexas.ed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s.utexas.edu/~scottm/cs31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477120" y="4859280"/>
            <a:ext cx="26668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114300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efini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that store other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earn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olbox full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ructur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w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them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w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ew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E94F-B848-4137-8DAC-9C9007B249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vignette2.wikia.nocookie.net/doratheexplorer/images/f/f1/Dora-5.png/revision/latest?cb=20140529173810"/>
          <p:cNvPicPr/>
          <p:nvPr/>
        </p:nvPicPr>
        <p:blipFill>
          <a:blip r:embed="rId1"/>
          <a:stretch/>
        </p:blipFill>
        <p:spPr>
          <a:xfrm>
            <a:off x="5759280" y="0"/>
            <a:ext cx="3191040" cy="327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3645000" y="3124080"/>
            <a:ext cx="55324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a data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y / catch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one of A -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9282-21C2-4C1D-AEAC-2DA0E38E59B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4200" y="838080"/>
            <a:ext cx="6096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 web site – most course ma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 discussion group – Piaz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vas -&gt; Grades, Program Submissions, Access Perusall, Zoom Links, Recorded Le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381400" cy="3809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6595920" y="3200400"/>
            <a:ext cx="2567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34CF-5421-482B-81A9-60241D27D83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A9F9-66D6-4A71-B10E-D9C598FD4A8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14480" y="990720"/>
            <a:ext cx="8915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are recommended, not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alternatives on the web, see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JP (CS312 book)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ongly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Recursively in Java - recu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1752840" cy="285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" descr=""/>
          <p:cNvPicPr/>
          <p:nvPr/>
        </p:nvPicPr>
        <p:blipFill>
          <a:blip r:embed="rId2"/>
          <a:stretch/>
        </p:blipFill>
        <p:spPr>
          <a:xfrm>
            <a:off x="1447920" y="3527280"/>
            <a:ext cx="23079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F493-1CAB-402C-AD2D-27AD2EFACE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se best describes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First year at UT and first year colleg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First year at UT, transferring from another college or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econd year at 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hird year at 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ded Course Compon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ademic Integrity Quiz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poin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ll correct or 0, multiple attem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projects, 20 points each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0 points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us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reading assignments, 4 points per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 points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of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 1, Wednesday 9/29, 6:45 – 9:15 pm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 2, Wednesday 11/3, 6:45 - 9:15 pm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 3, Final Exam period, time and date TBD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credit: Background surve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Instructor Eval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+ 220 + 40 + 250 + 250 + 250 + 10 + 10 = 10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exam points capped at 250 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points of “slack” among those non exam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s added! Grades based on 1000 points, not 10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points = min(250, sum of non exam) + e1 score + e2 score + e3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AD50-AF82-4B42-82D7-466163403F6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ades and Performanc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grade determined by final point total and a 900 – 800 – 700 – 600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ses and minuses if within 25 points of cutoff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925 - 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: 900 - 9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+: 875 - 89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y CS314 Historical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% C- or higher: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% A's,  35% B's,  17% C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% D 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 or W (dr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CIS WORK LOAD EVALUATED A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ign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trivial programm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– do your own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s checked automatically with plagiarism detection software (MO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the right thing - correct name, correct format or you will lose points / slip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d on Correctness AND program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Code is read more often than it is written.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uido Van Ros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p days: 8 for term, max 2 per assignment, don’t use frivolous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75E5-AD57-4EFC-AF06-5A0658393A3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cceeding in the Cour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y Pausch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 Professor at CMU sa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"When I got tenure a y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arly at Virginia, othe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ssistant Professors would come up to me and say, 'You got tenure early!?!?! What's your secret?!?!?' and I would tell them, 'Call me in my office at 10pm on Friday night and I'll tell you.'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 lot of people want a shortcut. I find the best shortcut is the long way, which is basically two words: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ork hard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5149800" y="1063800"/>
            <a:ext cx="361332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9" descr=""/>
          <p:cNvPicPr/>
          <p:nvPr/>
        </p:nvPicPr>
        <p:blipFill>
          <a:blip r:embed="rId1"/>
          <a:stretch/>
        </p:blipFill>
        <p:spPr>
          <a:xfrm rot="20402400">
            <a:off x="5540400" y="2209680"/>
            <a:ext cx="2209680" cy="2121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cceeding in the Course - Met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152640" y="68544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the first pengu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questions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, section, Piazza, lab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ssible to be perf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takes are ok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how we lea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ing to be perfect means not taking ri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isks, no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with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CF36-E9C6-42E5-B8DE-765E3691AC3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5181480" y="609480"/>
            <a:ext cx="933480" cy="1241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7010280" y="2933640"/>
            <a:ext cx="1919520" cy="1876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4"/>
          <a:stretch/>
        </p:blipFill>
        <p:spPr>
          <a:xfrm>
            <a:off x="3429000" y="4795920"/>
            <a:ext cx="2033640" cy="2124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" descr=""/>
          <p:cNvPicPr/>
          <p:nvPr/>
        </p:nvPicPr>
        <p:blipFill>
          <a:blip r:embed="rId5"/>
          <a:srcRect l="21926" t="31899" r="30999" b="17449"/>
          <a:stretch/>
        </p:blipFill>
        <p:spPr>
          <a:xfrm>
            <a:off x="5494320" y="4800600"/>
            <a:ext cx="367812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6"/>
          <a:stretch/>
        </p:blipFill>
        <p:spPr>
          <a:xfrm>
            <a:off x="6477120" y="549360"/>
            <a:ext cx="185580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470B-FB72-4878-908A-23EB459BE17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o Am I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480" y="1251000"/>
            <a:ext cx="7162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 of Instruction (lecturer) in CS department since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ad Stanford, MSCS R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Navy for 8 years,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years Round Rock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315200" y="1066680"/>
            <a:ext cx="879480" cy="134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5848200" y="2743200"/>
            <a:ext cx="319572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6629400" y="3743280"/>
            <a:ext cx="2333520" cy="136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6477120" y="5149800"/>
            <a:ext cx="26668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to Get Help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zza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lp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from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other students at a high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031D-B1DF-472E-ADA8-D0DB3D0D5BB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FE6F-9EDE-46C5-92C7-AB5433E7841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76320" y="-1526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cceeding in the Course - Concret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r stud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I really like the boot camp nature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cours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on assignments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help from the teaching staff when you get stuck on an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or watch lecture and discussion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on the class discuss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extra proble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tinyurl.com/pnzp28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for tests using the ol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for tests i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questions and get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C08D-AFD4-451C-AEAE-AF855FA23D5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- Oracle or OpenJDK, limit ourselves to Java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such as IntelliJ o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H into CS machines to test your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 departme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H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transfer files and login remote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nSCP, Putty, Cyberduck, Filezil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ip tool (create zip files to turn 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 (for remote o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ome and Proctorio (if circumstances warra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F4E7-4AF9-41AB-99C3-2443ECE1A70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omputer programming language are you most comfortable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Java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iobe.com/index.php/content/paperinfo/tpci/index.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ttp://lang-index.sourceforge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Elephant in the Roo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ight of the ongoing global pandem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Per UT Guidanc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Masks are strongly recommended indoors regardless of vaccination COVID-19 statu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UT Guidance: If you are sick stay home. Lectures are recorded and may be watched later if you are s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s shall be recorded for late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hours and discussion sections shall have online options as circumstance war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4D73-7534-4962-B9CB-55573886A0B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Elephant in the Roo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active Community Testing (PCT) is available on campus and "provides a quick and painless saliva or painless nasal-swab COVID-19 test for asymptomatic UT Austin students and employee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interested in obtaining a Covid-19 vaccine please see this p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uthealthaustin.org/patient-resources/covid-19-updates/covid-19-vacc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388B-4795-439C-B339-A6095152130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A1BC-60C8-4BCA-9AE2-0D46FDEF07D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We Will Do Toda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your TO DO li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items on the startup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s.utexas.edu/~scottm/cs314/handouts/startup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rse Goa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76320" y="1019160"/>
            <a:ext cx="9296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yze algorithms and code for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able to create and use canonical data structures: lists (array and linked), stacks, queues, trees, binary search trees, balanced binary search trees, maps, sets, graphs, hash tables, heaps, 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 and use the following programming tools and techniques: object oriented programming (encapsulation, inheritance, polymorphism), interfaces, iterators, sorting, searching, recursion, dynamic programming, functional 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3424-72B9-4A5C-965A-E793DFD7177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rse Goa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S314 you can design and implement medium size programs (several 100s of lines of code, split between multiple classes) to solve interest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, the three core areas of the UTCS undergrad degre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, Theory,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is class your instructors shall expect you to be able to write complex programs given a specification or problem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8544-67B8-4916-AB48-A469F0FC7B2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4196-4E80-4F21-89CB-CB55B041D3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requisit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: CS312 with a grade of C- 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: Ability to design and implement programs in Java us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304920" y="2362320"/>
            <a:ext cx="4190760" cy="53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s, order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s (if stat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ing boolean logic and boolean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(lo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 (functions, proced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 or records o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4495680" y="2360520"/>
            <a:ext cx="4648320" cy="35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s (vectors, l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down design (breaking big rocks into little rock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and data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implement program of at least 200 - 300 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you write a program to let two people play connect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7397640" y="5310360"/>
            <a:ext cx="1712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S314 Top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6920" y="7617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s,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4038480" y="609480"/>
            <a:ext cx="4191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, Simple S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-Black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ffman Code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Programm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8-17T19:30:02Z</dcterms:modified>
  <cp:revision>331</cp:revision>
  <dc:subject/>
  <dc:title>PowerPoint Presentation</dc:title>
</cp:coreProperties>
</file>