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27223-A836-43FA-86FE-3D0D286E3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E1E3A-04FC-4C31-BD50-3E683D3C7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he first penguin, Professor Randy Pau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ssible to be perfect, Captaim Tim Sy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ack, Quellcrist Falc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284FD-AF69-452E-90D2-278CB5300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B4C-A507-48CD-979D-E5D4FBED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F2A-529C-439F-AF32-B6CEA727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504-FADD-4DB2-90B2-74277058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78B-A506-4B94-AD46-D477160B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8942-6656-4FB2-A61B-67279A21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B23-BD03-4D6F-8524-5DA11410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150E-BEE1-4ADB-98DB-F740E045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30DF-5682-4B61-B266-19E4EC31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ED92-C02C-43BD-9FF5-453C5CE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C952-6004-4F25-A331-3C553476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16EE-4BA8-4E4A-BE0A-911EFC6A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682-5AA1-4303-AD0B-97721F60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56F1-5F11-46E7-A3C5-067A6292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303C-46D4-4930-B052-525F97B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185A-0624-4747-B670-D5DE4B31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7333-1075-49F0-B79D-77EA3882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5E8B-9EF5-4A12-9604-04E779A1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029-72EC-4DE2-9BC6-191FBA1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AF0-5739-4011-B794-37436086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351-AA8D-43E2-A3E3-7488BB4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918-9410-4795-A980-1ECF49F5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D3A-65BA-44ED-87A2-48B1EBB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9C2-D850-4639-B04E-66D99AB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312-9840-4FEC-95A3-0A02DB60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2361-DF65-49CE-8D6F-24BCE680F60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F93D-9215-4FD9-A17A-6C12C36F36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protect.utexas.edu/health-and-wellnes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9B8-9144-4643-8135-F919AB76AA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S314 Course Introduc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760" y="1447560"/>
            <a:ext cx="86868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n't expect a kind of Spanish Inqui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nal Ximinez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BODY expects the Spanish Inquisition! Our chief weapon is surprise...surprise and fear...fear and surprise.... Our two weapons are fear and surprise...and ruthless efficiency.... 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apons are fear, surprise, and ruthless efficiency...and an almost fanatical devotion to the Pope.... 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no..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 weapons.... Amongst our weaponry...are such diverse elements as fear, surprise.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97080" y="4641840"/>
            <a:ext cx="495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lass: please close laptop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put away mobile de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Scott, Gates 6.30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m@cs.utexas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utexas.edu/~scottm/cs31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477120" y="4859280"/>
            <a:ext cx="26668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11430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efin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hat store oth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earn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lbox full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w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em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w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ew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9BF0-23A8-41BC-B3D8-6A32FE3BED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vignette2.wikia.nocookie.net/doratheexplorer/images/f/f1/Dora-5.png/revision/latest?cb=20140529173810"/>
          <p:cNvPicPr/>
          <p:nvPr/>
        </p:nvPicPr>
        <p:blipFill>
          <a:blip r:embed="rId1"/>
          <a:stretch/>
        </p:blipFill>
        <p:spPr>
          <a:xfrm>
            <a:off x="5759280" y="0"/>
            <a:ext cx="3191040" cy="327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645000" y="3124080"/>
            <a:ext cx="55324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 data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y / catch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of A -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1AB6-990A-4383-8CA8-E8A62B3702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838080"/>
            <a:ext cx="6096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web site – most course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discussion group – Pia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vas -&gt; Grades, Program Submissions, Access Perusall, Zoom Links, Recorded Le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6781680" y="76320"/>
            <a:ext cx="2381400" cy="380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6595920" y="3200400"/>
            <a:ext cx="2567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C978-FB54-42C0-AFCF-62CD73E1A3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78A4-0DCD-442B-A841-D22AA86898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1448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are recommended, no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alternatives on the web, se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JP (CS312 book)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ongly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Recursively in Java - 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1752840" cy="285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1447920" y="3527280"/>
            <a:ext cx="23079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D14E-9792-4D90-AFC7-CF8FD3D8EA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best describes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rst year at UT and first year colleg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irst year at UT, transferring from another college or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econd year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hird year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ded Course Compon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ademic Integrity Quiz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poin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ll correct or 0, multiple attem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projects, 20 points each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0 point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us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reading assignments, 4 points per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 point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1, Wednesday 9/29, 6:45 – 9:15 pm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2, Wednesday 11/3, 6:45 - 9:15 pm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3, Final Exam period, time and date TB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credit: Background surv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Instructor Eva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220 + 40 + 250 + 250 + 250 + 10 + 10 = 1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exam points capped at 250 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points of “slack” among those non exa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s added! Grades based on 1000 points, not 1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points = min(250, sum of non exam) + e1 score + e2 score + e3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9D0-9408-4594-A4DA-31462E4137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ades and Performanc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grade determined by final point total and a 900 – 800 – 700 – 600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ses and minuses if within 25 points of cutoff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925 - 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: 900 - 9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+: 875 - 89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y CS314 Historical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 C- or higher: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% A's,  35% B's,  17% C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 D 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 or W (dr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CIS WORK LOAD EVALUATED A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trivial programm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– do you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s checked automatically with plagiarism detection software (MO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the right thing - correct name, correct format or you will lose points / slip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d on Correctness AND program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Code is read more often than it is written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uido Van Ros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p days: 8 for term, max 2 per assignment, don’t use frivolous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574-B9D2-4D0C-A6C0-38FBEFE3FB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cceeding in the Cour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y Pausc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Professor at CMU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"When I got tenure a y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arly at Virginia, othe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sistant Professors would come up to me and say, 'You got tenure early!?!?! What's your secret?!?!?' and I would tell them, 'Call me in my office at 10pm on Friday night and I'll tell you.'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lot of people want a shortcut. I find the best shortcut is the long way, which is basically two word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k hard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149800" y="1063800"/>
            <a:ext cx="361332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9" descr=""/>
          <p:cNvPicPr/>
          <p:nvPr/>
        </p:nvPicPr>
        <p:blipFill>
          <a:blip r:embed="rId1"/>
          <a:stretch/>
        </p:blipFill>
        <p:spPr>
          <a:xfrm rot="20402400">
            <a:off x="5540400" y="2209680"/>
            <a:ext cx="2209680" cy="2121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cceeding in the Course - Met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152640" y="6854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the first pengu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questions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, section, Piazza, lab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ssible to be perf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akes are ok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how we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be perfect means not taking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isks, n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with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3AFB-10BD-4390-A0AF-5452779D0B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181480" y="609480"/>
            <a:ext cx="933480" cy="1241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7010280" y="2933640"/>
            <a:ext cx="1919520" cy="1876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4"/>
          <a:stretch/>
        </p:blipFill>
        <p:spPr>
          <a:xfrm>
            <a:off x="3429000" y="4795920"/>
            <a:ext cx="2033640" cy="212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" descr=""/>
          <p:cNvPicPr/>
          <p:nvPr/>
        </p:nvPicPr>
        <p:blipFill>
          <a:blip r:embed="rId5"/>
          <a:srcRect l="21926" t="31899" r="30999" b="17449"/>
          <a:stretch/>
        </p:blipFill>
        <p:spPr>
          <a:xfrm>
            <a:off x="5494320" y="4800600"/>
            <a:ext cx="367812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6"/>
          <a:stretch/>
        </p:blipFill>
        <p:spPr>
          <a:xfrm>
            <a:off x="6477120" y="549360"/>
            <a:ext cx="18558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85F-443F-4305-A9FD-6ACFA5814F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o Am I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480" y="1251000"/>
            <a:ext cx="7162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 of Instruction (lecturer) in CS department since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ad Stanford, MSCS R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Navy for 8 years,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ears Round Rock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879480" cy="134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5848200" y="2743200"/>
            <a:ext cx="319572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6629400" y="3743280"/>
            <a:ext cx="2333520" cy="136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6477120" y="5149800"/>
            <a:ext cx="2666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to Get Hel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zza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lp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from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other students at a hig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ABE6-449B-4C37-B368-0A4A23568A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E53A-8D47-4D8C-9FC6-65F91CE0C7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76320" y="-1526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cceeding in the Course - Concret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stud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 really like the boot camp nature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urs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n assignments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help from the teaching staff when you get stuck on an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or watch lecture and discussion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on the class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extra probl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tinyurl.com/pnzp28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tests using the ol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tests 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questions and get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37C-64D6-44E9-8C0C-3906D0AF7B8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- Oracle or OpenJDK, limit ourselves to Jav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such as IntelliJ o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H into CS machines to test your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departme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transfer files and login remote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nSCP, Putty, Cyberduck, Filezil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ip tool (create zip files to turn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(for remote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me and Proctorio (if circumstances warra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F546-A51F-4FFA-B5A8-C6852D27ED9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omputer programming language are you most comfortable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iobe.com/index.php/content/paperinfo/tpci/index.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lang-index.sourceforge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Elephant in the Roo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ght of the ongoing global pandem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Per UT Guidanc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Masks are strongly recommended indoors regardless of vaccination COVID-19 statu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UT Guidance: If you are sick stay home. Lectures are recorded and may be watched later if you are s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s shall be recorded for late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hours and discussion sections shall have online options as circumstance war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FE1-DAC1-458C-896B-1F0DCB0DD0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Elephant in the Roo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Community Testing (PCT) is available on campus and "provides a quick and painless saliva or painless nasal-swab COVID-19 test for asymptomatic UT Austin students and employee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interested in obtaining a Covid-19 vaccine please see this p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uthealthaustin.org/patient-resources/covid-19-updates/covid-19-vacc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CBD2-355C-4008-9CBB-DF2EC12F45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BD63-0381-4549-96A8-60AE865ACD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We Will Do Toda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your TO DO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items on the startup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utexas.edu/~scottm/cs314/handouts/startup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rse Go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76320" y="1019160"/>
            <a:ext cx="9296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e algorithms and code for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able to create and use canonical data structures: lists (array and linked), stacks, queues, trees, binary search trees, balanced binary search trees, maps, sets, graphs, hash tables, heaps, 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and use the following programming tools and techniques: object oriented programming (encapsulation, inheritance, polymorphism), interfaces, iterators, sorting, searching, recursion, dynamic programming, functional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D1A-7516-4637-B134-F5D206B29B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rse Go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S314 you can design and implement medium size programs (several 100s of lines of code, split between multiple classes) to solve interest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, the three core areas of the UTCS undergrad deg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, Theory,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is class your instructors shall expect you to be able to write complex programs given a specification or problem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30EA-40D6-4C1A-80E5-92404586CB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274320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0C0F-C41D-4814-AC19-0A0A6D8B09B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requisit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: CS312 with a grade of C-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: Ability to design and implement programs in Java us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04920" y="2362320"/>
            <a:ext cx="41907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, order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s (if stat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boolean logic and boolean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(lo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 (functions, proced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or records o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4495680" y="2360520"/>
            <a:ext cx="4648320" cy="35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 (vectors, l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down design (breaking big rocks into little roc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and data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implement program of at least 200 - 300 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you write a program to let two people play connect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397640" y="5310360"/>
            <a:ext cx="1712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S314 Top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6920" y="7617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,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4038480" y="609480"/>
            <a:ext cx="4191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, Simple S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-Black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ffman Code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Programm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8-17T19:30:02Z</dcterms:modified>
  <cp:revision>331</cp:revision>
  <dc:subject/>
  <dc:title>PowerPoint Presentation</dc:title>
</cp:coreProperties>
</file>