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599B3982-4E01-4B4F-B689-80E0550F49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8462F51E-AB0F-4D44-A19F-1898BAA09D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D5C7-6920-4534-8B4B-6F6658473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8DA0-1AFE-4805-AF9D-72A2F485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0A463-485D-44FB-9699-FC444DD9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8868E-1A20-4EB5-A925-30930ED3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ABF35-FCD7-49E2-831A-4732C198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1E4EF-AEFD-432E-9592-F71DA85F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9CD0D-A4C4-4482-9B99-D8D47C3D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BD971-5835-42C2-95AC-5C4BDAF8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6BA92-B289-4685-81D4-6A4CF540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22865-37F1-4BF7-8CA2-8374D387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7C48B-568E-4C23-95CB-004A1C5E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30614-2EB8-4B66-B4F6-58314502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5BCF-3264-4116-B6FA-737FC52A2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310059-2EE0-4CE2-97B1-D764F514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2536C-223A-4521-8AC7-CFE7AC18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B9220-173E-42B9-AFF0-D3515666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E695D-6C10-4ED5-9FDA-4B8F3F17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FDE36-E78A-4C1B-B28C-E92EFCBA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924DD-7A9E-4069-A9C4-AAB9D40E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94B7DC-8392-4C46-B47F-869EF72B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4E9E2-6265-4872-B44C-8015ABF7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5BCED8-12A4-4467-BFC5-6F39DD1C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768D7-3E02-44F7-9E0C-2E4D3CE0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14AB-D4DF-481C-8A9E-96467471E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A124D-4521-49D8-B41C-E6AD14ED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50954-A0DF-4004-9A86-0085E9477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B2A7E-049E-43CF-AC33-B0BC6CC6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10C22-7DEE-4708-8258-DC7EB252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A16F0-7417-434A-A98C-AD32C067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956AA-BB81-49B3-B998-A91177EC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F8EC5-C099-4996-8A38-AF5B0C5D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1131B-9971-4E8F-AC21-7649A807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0D5EA-D860-444C-AE44-D638C75F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61829-3332-484D-B696-A282A1CA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A5FF-8777-47F1-B798-41B8E4F3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14091-4480-4332-A58D-9877EE85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13970-92B7-46FA-AAD5-4CDE1324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C4EBE-1F95-4248-B914-9FD94992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5345FA-CF17-448B-B430-F241C197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153D72-04CE-44F1-B5F1-B8F1687A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695A4-0DE7-4B7D-9EB8-701EC41A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381CE-3A99-4926-B3D6-BC809D33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D9F69B-B28D-43FD-885F-18457682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37EB4F-53DD-4AC3-B2BE-EE9128CE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863D5-7A11-4187-99BF-6983E855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F320-5D60-4704-B114-05DCEF38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62C38-1E2E-4420-A12B-0E5AF80E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E09B5-34D7-4F3B-8F19-9E895A3A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72538-DE8D-474C-81E6-0ECF3B2C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8E237-4820-4E04-AD40-8CB082997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A77A64-57D4-403E-BFB3-040EC654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55E83C-F125-4D28-9188-3B4EF43E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CEB3EE-4B4B-4740-A20D-A872DD63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AEECDE-76EF-49D2-88CF-CCB25381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741B19-5872-481F-8B3D-49068F97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8B54D3-CAA6-4A7B-9D1F-0CBAC529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8A69-6918-4A04-A699-D995C24D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89C45F-8061-47C4-82A1-AED236DD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DCD882-2AFD-4273-858C-5A0FFAD8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AD0F28-65DA-4A1B-89D5-9344D873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59612B-E13F-4870-8486-70B85030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96BEA8-302B-4846-B37D-0D374BCA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1B2159-8FEA-4643-8F0F-3A7C8D26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DB8B6A-77AD-4324-B3D4-BCDA6280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B0BA-12C5-44EC-9518-969C3FC3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2424-D42B-4DF7-AE0B-E1A9B28F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139C-4E0D-40C3-9350-1DDD1B53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FF8D-5424-4A5D-8947-0021E749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1D85-74C1-43E0-8E1B-F6EF5F42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9753-1D06-4933-BFB7-C898CEDD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922A-5C62-4210-9C2C-DFE3B8A2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FC2F-0AD1-416C-A6B6-F6A424E8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A336-3D40-4844-827D-57143BD3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1048-F077-437B-889A-A31959CD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3FE95-04DC-4924-9605-D252E21F3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31CE8-1374-42A5-AD64-0CA86825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E2F2F-5782-4D57-8337-4BA775B9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76D3D-6248-4AA3-9AEA-0FAFC9D9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9227B-B082-446D-BF33-55695DB7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8FBE-0C4F-44E6-96E8-CCC5A487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B8777-1FA3-4DB3-96F3-EBCCAC2F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6D479-FF18-480A-9C61-E3D74BD9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C9C9C-6B44-4955-83E9-3575DE62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A7252-FD07-466C-8216-80A98B39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F432F-F2D4-485F-A133-73C3AF31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B717A-F07E-4A48-9744-E064D5A71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EF569-1658-46D2-AEBF-C99101C84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61532-EC5A-475B-9D51-45665D5D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29589-AE57-4499-B713-552885BA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FD958-E7E4-4188-81CC-C3D77B61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FADC-0D71-4BB6-9918-AEE44BC6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24B0B-F9E2-47B1-A029-21E8B408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2EDF6-4332-469F-8894-A44BBD7B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218D5-1905-4D2E-9B67-9451C159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A3D6C-5342-46AB-AB17-B5949842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8FFC2-BBB8-4B27-B8F5-43DE5047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03D69-DEE8-4A45-AD29-EAC38730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1E839-D219-4207-97E1-75DA1C21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1AC18-54CC-4227-B15A-0901C5506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AF185-7C8D-4B0E-B9A3-08A53DE92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70774-7296-48D8-B558-CDE75A26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3183-B528-4B1A-9C9E-3C500500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F16FC-241F-474D-9D77-8B562482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F571D-F9EB-47EC-9C1F-78F964C9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F2E44-D21B-444E-A1E0-961F32FB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E66C7-0D64-4FF7-A339-7FF373A3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47B29-552A-4DA6-8BF8-1FC35F62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46F80-913A-4CFB-B3F1-F246E8FC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D0934-1D3F-497C-881C-D848D903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8D7C4-A8F4-4A31-81DE-419F929B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8562E-FFF2-44B2-993D-A331BD10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EA0FA-E3A4-42B1-84F3-9B846AF6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6919-C280-4399-89E6-089A93A1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3A5CD-BB60-47A3-B344-97964EA73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0BFC3-8AD1-4DAD-B50C-6185D1E8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4F50E-19BB-4FB7-B12C-0F52B75C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BDCD1-5ADD-4AEA-923B-5DB61234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2F219-F1E5-40CB-BA4A-44582B08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F7361-ADDE-423C-99DC-F74D98D2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34190-72BA-4354-AA51-90861330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43FE6-4B45-4682-99E8-3B363151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FFE23-C875-4931-B5A7-32B1DEC2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B8247-AEB9-41E6-ABE5-7468A601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AD90-B0E3-4279-9350-05337B78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1A1F0-1760-4367-9231-4DCAC725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A6B16-E10E-45C4-9FA5-68CE8B3C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022AC-F998-4429-8ECC-DD4084B9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E1723-A1F0-4BD4-8FAC-27968444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3F1E6-547A-4D33-9660-E2D6D514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D302C-1448-4F9E-9C82-881C3CBB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1CB1B-2961-4D39-869D-063B23FB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6A4B8-AC93-4F9D-9F62-A5287CAA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643EF-0EFB-4BFA-9D4B-CF690E51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F9B76-FD08-414E-B8C1-6041EC58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E456-6142-41DD-802A-B61AEE17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93236-A77E-48C9-ADA0-E23A6F30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F5F0B-B800-4784-855E-923BBD1B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EC2C4-1BD2-473F-8682-353D259C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94D41-6261-4C17-997F-00766E5FC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50943-2411-4845-AB32-BA246D256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ABA13-E117-42F2-A24B-3C8409E2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39755-376E-4A5A-860B-3CE79A7F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249BC-006C-48A3-9C02-17347762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B779D-BFE0-4DB2-9284-041B4AB8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B9186-82D2-47F5-891C-CA36B217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F5DA-D5B8-4BB3-83F9-78AFFB3A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B68E7-E431-400D-A537-81EEDD58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B06AD-E6F2-4EFC-A9C9-3AEBDAE0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86C7E-7848-4D4B-97BE-126AFA2B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A34E9-2D5F-4F73-A861-15EBD596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95656-9370-48F7-8292-57922343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CECE8-206D-4CCF-A2DC-92990011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1E8B5-DB72-42E9-B154-DBE00CC0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A8841-6E3E-45C2-BA3B-3D398DDA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D2835-A2E0-4052-8B69-97BA3E5F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3109C-EC20-4650-8563-184E9715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3814-7E95-4538-8BFC-536E8950757A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1615-27D2-45F6-A672-678F511A8F71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DE64-BF4D-4FF6-95F1-BDC09F510068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4D57-040F-4781-AA20-1D741CCB8640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106D-B5A0-4BA4-A584-ADBFE6E2FDF2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6055-8BE5-449A-A8E1-65A48DACBEB9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8246-C65B-44F0-8D39-B5A50DBA6DEC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B55A-4D18-4DA3-981F-518EA48A8AE0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95B6-58E6-4BD0-BC35-4669C2506A8C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BE25-1663-4F5F-8DB2-C1A9198A461D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4F0B-A834-4C66-9D3A-80728C1888D6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05DD-6929-4D4D-9B5E-9DA666FC48E5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9918-8E90-4A3D-B3EC-0390842B75C4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atb.org/~esr/jargon/html/T/tune.html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chlemiel_the_painter&apos;s_Algorithm" TargetMode="External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opic Number 2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fficiency – Complexity -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lgorithm Analysi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380520" y="2437920"/>
            <a:ext cx="84582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 twiddling: 1. (pejorative) An exercise in tuning (se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tu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n which incredible amounts of time and effort go to produce little noticeable improvement, often with the result that the cod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omes incomprehensible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e Hackers Dictionary, version 4.4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nother Simplific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28600" y="6858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etermining complexity of an algorithm we want to simplify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de some details to make comparisons ea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assigning your grade for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end of CS314 your transcript won’t list all the details of your performance in the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on’t list scores on all assignments, quizzes,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y a letter grade, B- or A or D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e focus on the dominant term from the function and ignore the co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38E0-040A-4F2F-BB33-FE476BB3022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ig O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52280" y="6094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common method and notation for discussing the execution time of algorithms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ig 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lso spok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O is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symptotic execution ti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words, how does the running time of the algorithm grow as a function of the amount of input 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O is an upper b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mathematical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e a lot of unimportant details by assigning a simple grade (function) to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A574-403C-4628-BE45-B660994F46B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ormal Definition of Big O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(N) is O( F(N) )   if there are positive constants c and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ch that T(N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F(N) when 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is the size of the data set the algorithm works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(N) is a function that characterize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t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unning time of the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N) is a function that characterizes an upper bounds on T(N). It is a limit on the running time of the algorithm. (The typical Big functions t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and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nsta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D2BE-8EE5-45FB-8413-F90DF5ED5EB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at it Mea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(N) is the actual growth rate of th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equated to the number of executable statements in a program or chunk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N) is the function that bounds the growth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upper or lower b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(N) may not necessarily equal F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s and lesser terms ignored because it i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unding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1DFD-E7F2-4A4C-9037-7EAC76A34C9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howing O(N) is Correc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the formal definition of Big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(N) is O( F(N) ) if there are positive constants c and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that T(N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F(N) when N &gt;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metho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(N) = 3N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metho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O(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N) is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choose constants c and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bout c = 4,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5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E71A-D912-48C5-B6FA-116D578E734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2"/>
          <p:cNvSpPr/>
          <p:nvPr/>
        </p:nvSpPr>
        <p:spPr>
          <a:xfrm>
            <a:off x="533520" y="5638680"/>
            <a:ext cx="8076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3"/>
          <p:cNvSpPr/>
          <p:nvPr/>
        </p:nvSpPr>
        <p:spPr>
          <a:xfrm>
            <a:off x="686880" y="5715000"/>
            <a:ext cx="80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tal axis: N, number of elements in data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4"/>
          <p:cNvSpPr/>
          <p:nvPr/>
        </p:nvSpPr>
        <p:spPr>
          <a:xfrm flipV="1">
            <a:off x="533520" y="762120"/>
            <a:ext cx="0" cy="4876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191160" y="0"/>
            <a:ext cx="784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axis: time for algorithm to complete. (simplified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executable state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6"/>
          <p:cNvSpPr/>
          <p:nvPr/>
        </p:nvSpPr>
        <p:spPr>
          <a:xfrm flipV="1">
            <a:off x="533520" y="1752120"/>
            <a:ext cx="2438280" cy="3048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2318400" y="2489040"/>
            <a:ext cx="679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(N), actual function of number of computations.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 this case 3N 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8"/>
          <p:cNvSpPr/>
          <p:nvPr/>
        </p:nvSpPr>
        <p:spPr>
          <a:xfrm flipV="1">
            <a:off x="533520" y="3580920"/>
            <a:ext cx="4190760" cy="20574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9"/>
          <p:cNvSpPr/>
          <p:nvPr/>
        </p:nvSpPr>
        <p:spPr>
          <a:xfrm>
            <a:off x="3492000" y="4114800"/>
            <a:ext cx="435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F(N), approximate function </a:t>
            </a:r>
            <a:br>
              <a:rPr sz="2400"/>
            </a:b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f computations. In this case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0"/>
          <p:cNvSpPr/>
          <p:nvPr/>
        </p:nvSpPr>
        <p:spPr>
          <a:xfrm>
            <a:off x="175248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1"/>
          <p:cNvSpPr/>
          <p:nvPr/>
        </p:nvSpPr>
        <p:spPr>
          <a:xfrm>
            <a:off x="1977120" y="5094360"/>
            <a:ext cx="125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2"/>
          <p:cNvSpPr/>
          <p:nvPr/>
        </p:nvSpPr>
        <p:spPr>
          <a:xfrm flipV="1">
            <a:off x="533520" y="1142640"/>
            <a:ext cx="1828800" cy="44197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3"/>
          <p:cNvSpPr/>
          <p:nvPr/>
        </p:nvSpPr>
        <p:spPr>
          <a:xfrm>
            <a:off x="2313360" y="914400"/>
            <a:ext cx="30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 * F(N), in this case, </a:t>
            </a:r>
            <a:br>
              <a:rPr sz="2400"/>
            </a:b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 = 4, c * F(N) = 4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4"/>
          <p:cNvSpPr/>
          <p:nvPr/>
        </p:nvSpPr>
        <p:spPr>
          <a:xfrm flipV="1">
            <a:off x="1752480" y="2666880"/>
            <a:ext cx="0" cy="28958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5614-1F81-498C-9CAE-BF74A4CFDC7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ypical Big O Functions – "Grades"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609480" y="762120"/>
          <a:ext cx="5791320" cy="5486400"/>
        </p:xfrm>
        <a:graphic>
          <a:graphicData uri="http://schemas.openxmlformats.org/drawingml/2006/table">
            <a:tbl>
              <a:tblPr/>
              <a:tblGrid>
                <a:gridCol w="2895840"/>
                <a:gridCol w="28954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on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ent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d &gt;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ynom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b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dra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  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Square root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log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log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 -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arithm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6" name="Line 44"/>
          <p:cNvSpPr/>
          <p:nvPr/>
        </p:nvSpPr>
        <p:spPr>
          <a:xfrm flipV="1">
            <a:off x="741240" y="5028840"/>
            <a:ext cx="15264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45"/>
          <p:cNvSpPr/>
          <p:nvPr/>
        </p:nvSpPr>
        <p:spPr>
          <a:xfrm flipV="1">
            <a:off x="741240" y="495252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46"/>
          <p:cNvSpPr/>
          <p:nvPr/>
        </p:nvSpPr>
        <p:spPr>
          <a:xfrm>
            <a:off x="812880" y="4954680"/>
            <a:ext cx="84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47"/>
          <p:cNvSpPr/>
          <p:nvPr/>
        </p:nvSpPr>
        <p:spPr>
          <a:xfrm>
            <a:off x="665280" y="510552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48"/>
          <p:cNvSpPr/>
          <p:nvPr/>
        </p:nvSpPr>
        <p:spPr>
          <a:xfrm flipV="1">
            <a:off x="960480" y="3657240"/>
            <a:ext cx="15228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49"/>
          <p:cNvSpPr/>
          <p:nvPr/>
        </p:nvSpPr>
        <p:spPr>
          <a:xfrm flipV="1">
            <a:off x="960480" y="358092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50"/>
          <p:cNvSpPr/>
          <p:nvPr/>
        </p:nvSpPr>
        <p:spPr>
          <a:xfrm>
            <a:off x="1031760" y="3583080"/>
            <a:ext cx="84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51"/>
          <p:cNvSpPr/>
          <p:nvPr/>
        </p:nvSpPr>
        <p:spPr>
          <a:xfrm>
            <a:off x="884160" y="37339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52"/>
          <p:cNvSpPr/>
          <p:nvPr/>
        </p:nvSpPr>
        <p:spPr>
          <a:xfrm>
            <a:off x="6607080" y="6602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5" name="Straight Arrow Connector 2"/>
          <p:cNvCxnSpPr/>
          <p:nvPr/>
        </p:nvCxnSpPr>
        <p:spPr>
          <a:xfrm flipH="1" flipV="1">
            <a:off x="7043400" y="1037520"/>
            <a:ext cx="18000" cy="5087160"/>
          </a:xfrm>
          <a:prstGeom prst="straightConnector1">
            <a:avLst/>
          </a:prstGeom>
          <a:ln w="127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36" name="TextBox 4"/>
          <p:cNvSpPr/>
          <p:nvPr/>
        </p:nvSpPr>
        <p:spPr>
          <a:xfrm>
            <a:off x="7223760" y="4659480"/>
            <a:ext cx="149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grow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slowly' wit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in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19"/>
          <p:cNvSpPr/>
          <p:nvPr/>
        </p:nvSpPr>
        <p:spPr>
          <a:xfrm>
            <a:off x="7321680" y="1179360"/>
            <a:ext cx="1581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grow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quickly' wit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in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4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true?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T(N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3N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O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f A – C are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ree of A – C are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B180-9935-4EB3-A509-24A341A8AD2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howing Order Briefly … 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76320" y="838080"/>
            <a:ext cx="8991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10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5N is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 into te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0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5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  (Now ad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5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0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5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5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= 25,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, the choices for c and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not uniqu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C46B-F83A-4F43-8D3C-0D509ADB8F0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7F8E-8269-4743-88E5-16D472E60B3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aling with other metho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6320" y="83808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I do about method ca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sum = 0.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0; i &lt; n; i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m += Math.sqrt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o that method or constructo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itute the simplified Big O function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.sqrt is constant time, O(1), simply coun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um += Math.sqrt(i)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one stat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Question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gram finds all the prime numbers between 2 and 1,000,000,000 from scratc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0.37 seconds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a fast so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dep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E7BB-4C58-41AA-886F-58A5362F774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6D9D-869E-4485-A297-9EB64B61315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aling With Other Metho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foo(int[] data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total = 0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for (int i = 0; i &lt; data.length; i++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tal += countDups(data[i], dat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tot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method countDups is O(N) where N is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length of the array it is pa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er 5, What is the Big O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fo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1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O(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O(NlogN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O(N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dependent Loop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9" name="Text Box 4"/>
          <p:cNvSpPr/>
          <p:nvPr/>
        </p:nvSpPr>
        <p:spPr>
          <a:xfrm>
            <a:off x="477000" y="457200"/>
            <a:ext cx="8410320" cy="63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from the Matrix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cale(int factor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r = 0; r &lt; numRows(); r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c = 0; c &lt; numCols(); c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Cells[r][c] *= fac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mRows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mCols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ther words, a square matrix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Rows and numCols are O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T(N)?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er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at is the Ord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O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O(Nlog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O(N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us question. What if numRows is O(N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D4F6-3D09-4A9A-B486-DA41386A473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ust Count Loops, Right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4"/>
          <p:cNvSpPr/>
          <p:nvPr/>
        </p:nvSpPr>
        <p:spPr>
          <a:xfrm>
            <a:off x="118440" y="843120"/>
            <a:ext cx="9141840" cy="41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// assume mat is a 2d array of boole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// assume mat is square with N rows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// and N colum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count(boolean[][] ma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row, int col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nt numThings = 0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for (int r = row - 1; r &lt;= row + 1; r++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for (int c = col - 1; c &lt;= col + 1; c++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f (mat[r][c]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numThings++;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5"/>
          <p:cNvSpPr/>
          <p:nvPr/>
        </p:nvSpPr>
        <p:spPr>
          <a:xfrm>
            <a:off x="0" y="4952880"/>
            <a:ext cx="91440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er 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at is the order of the above method cou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O(N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6D49-8F8B-49B6-A8C8-51BF7A1E5B7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t is Not Just Counting Loop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Second example from previous slide could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rewritten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umThings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mat[r-1][c-1]) numThings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mat[r-1][c]) numThings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mat[r-1][c+1]) numThings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mat[r][c-1]) numThings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mat[r][c]) numThings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mat[r][c+1]) numThings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mat[r+1][c-1]) numThings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mat[r+1][c]) numThings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mat[r+1][c+1]) numThings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8C52-39FD-4258-9820-B869167FD40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idetrack, the logarithm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 Dr. M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wise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9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The log to the base 3 of 9 is 2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y to think about lo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the log to the base x of y is the number you can raise x to to get y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y to yourself "The log is the exponent." (and say it over and over until you believe i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S we work with base 2 logs, a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2 = 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8 = ?    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24 = ?     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00 =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Date Placeholder 3"/>
          <p:cNvSpPr/>
          <p:nvPr/>
        </p:nvSpPr>
        <p:spPr>
          <a:xfrm>
            <a:off x="457200" y="62485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ase of the log is typically not included as we can switch from one base to another by multiplying by a constant fac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A605-E3F5-4F62-BAC8-E2B76D3E710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en Do Logarithms Occu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s tend to have a logarithmic term when they use a divide and conquer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ze of the data set keeps getting divided by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foo(int n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// pre n &gt; 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int total = 0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while (n &gt; 0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n = n / 2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total++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return total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er 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at is the order of the above co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O(log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O(N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O(Nlog N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7" descr=""/>
          <p:cNvPicPr/>
          <p:nvPr/>
        </p:nvPicPr>
        <p:blipFill>
          <a:blip r:embed="rId1"/>
          <a:stretch/>
        </p:blipFill>
        <p:spPr>
          <a:xfrm>
            <a:off x="6324480" y="2143080"/>
            <a:ext cx="258156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424C-5FFE-454C-9830-30EF05A361B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ignificant Improvement – Algorithm with Smaller Big O function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Given an array of ints replace any element equal to 0 with the maximum positive value to the right of that element. (if no positive value to the right, leave unchange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[0, 9, 0, 13, 0, 0, 7, 1, -1, 0, 1, 0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urier New"/>
              </a:rPr>
              <a:t>13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, 9,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urier New"/>
              </a:rPr>
              <a:t>13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, 13,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urier New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urier New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, 7, 1, -1,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urier New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, 1, 0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place Zeros – Typical Solution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8" name="Text Box 4"/>
          <p:cNvSpPr/>
          <p:nvPr/>
        </p:nvSpPr>
        <p:spPr>
          <a:xfrm>
            <a:off x="108360" y="457200"/>
            <a:ext cx="9141840" cy="61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void replace0s(int[] data)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for(int i = 0; i &lt; data.length; i++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 (data[i] == 0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max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(int j = i+1; j&lt;data.length; j++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    max = Math.max(max, data[j]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ata[i] = max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all values are zeros. (worst c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of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pendent loo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er 9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Number of times j &lt; data.length evalu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 O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O(Nlog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O(N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DBFF-7AA2-4CCB-9FF3-75D30813AB4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09120" y="-766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place Zeros – Alternate Solution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3" name="Text Box 5"/>
          <p:cNvSpPr/>
          <p:nvPr/>
        </p:nvSpPr>
        <p:spPr>
          <a:xfrm>
            <a:off x="462960" y="988920"/>
            <a:ext cx="8410320" cy="51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place0s(int[] data)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int max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.max(0, data[data.length – 1]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start = data.length – 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start; i &gt;= 0; i--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data[i] ==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ta[i] = ma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x = Math.max(max, data[i]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er 1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ig O of this approa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 O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O(Nlog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O(N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76320" y="6094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O(N) really that much faster than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 the actual functions and the value of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0N + 250 compared to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o we use mechanized compu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= 1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,000,250 &lt; 10,000,000,010 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2744-1995-416A-99A9-30EDE132CD9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fficienc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7632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Scientists don’t just write progra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s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alyz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efficient is a progra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time does it take program to comple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emory does a program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these change as the amou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data chan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difference between the average case and worst case efficiency if a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E2E9-08BA-4F9E-9188-AD019D0861C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56DE-9EC2-4E13-9D12-68C4DCD421B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Useful Propor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F(N) is characterizes the running time of an algorithm the following proportion should hold tr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/ F(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~= tim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tim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lgorithm that is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akes 3 seconds to run given 10,000 pieces of da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long do you expect it to take when there are 30,000 pieces of 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mis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arith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FEBD-67DE-4853-85A9-6F096D0E4C5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y Use Big O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 build data structures Big O is the tool we will use to decide under what conditions one data structure is better than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about performance when there is a lot of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t worked so well with small data sets..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Joel Spolsky, Schlemiel the painter's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ts of trade o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data structures good for certain types of problems, bad for other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able to trade SPACE for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 solution that uses more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er solution that uses l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7A04-FE26-4F48-8606-453FE76BC8A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ig O Spac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O could be used to specify how much space is needed for a particular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words how many variables ar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there 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ime – space trade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often take less time if willing to use more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often use less memory if willing to take lo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ly beautiful solutions take less time and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biggest difference between time and space is that you can't reuse time.  - Merrick Fu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A60A-887E-4003-A4B9-BB40481A3BA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Quantifiers on Big O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5960" y="76212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often useful to discuss different cases for a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Case: what is the best we can hope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st inter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Case (a.k.a. expected running time): what usually happens with the algorith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st Case: what is the worst we can expect of the algorith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y interesting to compare this to the averag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FC17-519D-4A20-BBCF-42CB431A677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est, Average, Worst Cas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the best, average, and worst case Big O we must make assumptions about the data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case -&gt; what are the properties of the data set that will lead to the fewest number of executable statements (steps in the algorith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st case -&gt; what are the properties of the data set that will lead to the largest number of executable stat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case -&gt; Usually this means assuming the data is randomly distribu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if I ran the algorithm a large number of times with different sets of data what would the average amount of work be for those ru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6900-486C-4AEA-A9AB-175C58F2DFC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2"/>
          <p:cNvSpPr/>
          <p:nvPr/>
        </p:nvSpPr>
        <p:spPr>
          <a:xfrm>
            <a:off x="228600" y="914400"/>
            <a:ext cx="89154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double minimum(double[] values)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int n = values.length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double minValue = values[0]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for (int i = 1; i &lt; n; i++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if (values[i] &lt; minValue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   minValue = values[i]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return minValue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14120" y="4038120"/>
            <a:ext cx="8915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(N)? F(N)? Big O? Best case? Worst Case? Average Cas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other information, assume asking average c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9041-D722-45A4-A3A8-D5B255888F7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 of Dominanc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an extreme example. Assume the actual  number as a function of the amount of dat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10000 + 2N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+ 1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plausible to say the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rm dominates even though it is divided by 10000 and that the algorithm is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we separate the equation into 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10000) and (2N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 + 100000) and graph the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5E98-3C60-4002-82AE-B49D636220F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umming Execution Tim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large values of N the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rm dominates so the algorithm is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es it make sense to use a compu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4" descr="graph1"/>
          <p:cNvPicPr/>
          <p:nvPr/>
        </p:nvPicPr>
        <p:blipFill>
          <a:blip r:embed="rId1"/>
          <a:stretch/>
        </p:blipFill>
        <p:spPr>
          <a:xfrm>
            <a:off x="762120" y="857160"/>
            <a:ext cx="5410080" cy="3492720"/>
          </a:xfrm>
          <a:prstGeom prst="rect">
            <a:avLst/>
          </a:prstGeom>
          <a:ln w="0">
            <a:noFill/>
          </a:ln>
        </p:spPr>
      </p:pic>
      <p:sp>
        <p:nvSpPr>
          <p:cNvPr id="739" name="Text Box 5"/>
          <p:cNvSpPr/>
          <p:nvPr/>
        </p:nvSpPr>
        <p:spPr>
          <a:xfrm>
            <a:off x="5796360" y="1608120"/>
            <a:ext cx="298188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d line is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Nlog10 N + 1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6"/>
          <p:cNvSpPr/>
          <p:nvPr/>
        </p:nvSpPr>
        <p:spPr>
          <a:xfrm>
            <a:off x="4880880" y="2712960"/>
            <a:ext cx="170316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lue line is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N</a:t>
            </a:r>
            <a:r>
              <a:rPr b="0" lang="en-US" sz="2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/1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A110-D220-49E7-B886-7C1CB9415F2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mparing Grad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we have a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 A solves the problem correctly and is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 B solves the same problem correctly and is O(N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algorithm is fas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assumptions of Big O is that the data set is l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"grades" should be accurate tools if this is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996C-A3B7-4DA1-9C21-4D379364E57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unning Tim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N = 100,000 and processor speed is 1,000,000,000 operations per 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1" name=""/>
          <p:cNvGraphicFramePr/>
          <p:nvPr/>
        </p:nvGraphicFramePr>
        <p:xfrm>
          <a:off x="1600200" y="2066760"/>
          <a:ext cx="5943600" cy="396252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nning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0,086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71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6 d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seco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  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2 seco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log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7 seco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1 seco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co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co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2" name="Line 39"/>
          <p:cNvSpPr/>
          <p:nvPr/>
        </p:nvSpPr>
        <p:spPr>
          <a:xfrm flipV="1">
            <a:off x="1906560" y="3798360"/>
            <a:ext cx="15228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40"/>
          <p:cNvSpPr/>
          <p:nvPr/>
        </p:nvSpPr>
        <p:spPr>
          <a:xfrm flipV="1">
            <a:off x="1906560" y="411444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41"/>
          <p:cNvSpPr/>
          <p:nvPr/>
        </p:nvSpPr>
        <p:spPr>
          <a:xfrm>
            <a:off x="1981080" y="4114800"/>
            <a:ext cx="84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42"/>
          <p:cNvSpPr/>
          <p:nvPr/>
        </p:nvSpPr>
        <p:spPr>
          <a:xfrm>
            <a:off x="1830240" y="42670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43"/>
          <p:cNvSpPr/>
          <p:nvPr/>
        </p:nvSpPr>
        <p:spPr>
          <a:xfrm flipV="1">
            <a:off x="1752480" y="5333760"/>
            <a:ext cx="15264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44"/>
          <p:cNvSpPr/>
          <p:nvPr/>
        </p:nvSpPr>
        <p:spPr>
          <a:xfrm flipV="1">
            <a:off x="1752480" y="525744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45"/>
          <p:cNvSpPr/>
          <p:nvPr/>
        </p:nvSpPr>
        <p:spPr>
          <a:xfrm>
            <a:off x="1824120" y="5259240"/>
            <a:ext cx="84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46"/>
          <p:cNvSpPr/>
          <p:nvPr/>
        </p:nvSpPr>
        <p:spPr>
          <a:xfrm>
            <a:off x="1676520" y="54100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echniqu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-152640" y="838080"/>
            <a:ext cx="9296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l approach for this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formal techniques in theory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ow many computations will this program (method, algorithm) perform to get the answ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impl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 algorithms as Java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executable statements in program or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number of statements as function of the amount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minant ter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CCAC-F7C7-45F6-A81A-F8662803C22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D70A-FC32-480B-A8EB-6E43823D29F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ory to Practice OR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ykstra says: "Pictures are for the Weak."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764" name=""/>
          <p:cNvGraphicFramePr/>
          <p:nvPr/>
        </p:nvGraphicFramePr>
        <p:xfrm>
          <a:off x="533520" y="1447920"/>
          <a:ext cx="8381880" cy="4211640"/>
        </p:xfrm>
        <a:graphic>
          <a:graphicData uri="http://schemas.openxmlformats.org/drawingml/2006/table">
            <a:tbl>
              <a:tblPr/>
              <a:tblGrid>
                <a:gridCol w="1143000"/>
                <a:gridCol w="838080"/>
                <a:gridCol w="914400"/>
                <a:gridCol w="828720"/>
                <a:gridCol w="931680"/>
                <a:gridCol w="933480"/>
                <a:gridCol w="932040"/>
                <a:gridCol w="930240"/>
                <a:gridCol w="930240"/>
              </a:tblGrid>
              <a:tr h="562320">
                <a:tc>
                  <a:txBody>
                    <a:bodyPr lIns="45720" rIns="4572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log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/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9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(5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de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(27.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(21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(174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29 mi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(13,957)</a:t>
                      </a:r>
                      <a:br>
                        <a:rPr sz="2400"/>
                      </a:b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233 m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(112k)</a:t>
                      </a:r>
                      <a:br>
                        <a:rPr sz="2400"/>
                      </a:b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31 h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(896k)</a:t>
                      </a:r>
                      <a:br>
                        <a:rPr sz="2400"/>
                      </a:b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10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(7.2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80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5" name="Text Box 452"/>
          <p:cNvSpPr/>
          <p:nvPr/>
        </p:nvSpPr>
        <p:spPr>
          <a:xfrm>
            <a:off x="1677240" y="5791320"/>
            <a:ext cx="604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s in Seconds.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dicates predicated val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2292-3D9E-476A-8D03-4AFE0E02FF1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hange between Data Poi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228600" y="1143000"/>
          <a:ext cx="8686800" cy="4514760"/>
        </p:xfrm>
        <a:graphic>
          <a:graphicData uri="http://schemas.openxmlformats.org/drawingml/2006/table">
            <a:tbl>
              <a:tblPr/>
              <a:tblGrid>
                <a:gridCol w="1066680"/>
                <a:gridCol w="614520"/>
                <a:gridCol w="774720"/>
                <a:gridCol w="703080"/>
                <a:gridCol w="789120"/>
                <a:gridCol w="792000"/>
                <a:gridCol w="790560"/>
                <a:gridCol w="787680"/>
                <a:gridCol w="790560"/>
                <a:gridCol w="788760"/>
                <a:gridCol w="789120"/>
              </a:tblGrid>
              <a:tr h="666720">
                <a:tc>
                  <a:txBody>
                    <a:bodyPr lIns="45720" rIns="4572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.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.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.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.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.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.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.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.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.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log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.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.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.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.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.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.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.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.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.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/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.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.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.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.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.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.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.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.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.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i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.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.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.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.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.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d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.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.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.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.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000"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.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1" name="Text Box 795"/>
          <p:cNvSpPr/>
          <p:nvPr/>
        </p:nvSpPr>
        <p:spPr>
          <a:xfrm>
            <a:off x="2247120" y="5715000"/>
            <a:ext cx="539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obtained by Tim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/ Tim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2E7D-6021-497D-90FC-A8158F5B043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7621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kay, Picture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776" name="Object 4"/>
          <p:cNvGraphicFramePr/>
          <p:nvPr/>
        </p:nvGraphicFramePr>
        <p:xfrm>
          <a:off x="228600" y="947880"/>
          <a:ext cx="8686800" cy="5267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47880"/>
                    <a:ext cx="8686800" cy="52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B3C6-EB68-474A-9F6A-B3711D988FB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ut a Cap on Tim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782" name="Object 3"/>
          <p:cNvGraphicFramePr/>
          <p:nvPr/>
        </p:nvGraphicFramePr>
        <p:xfrm>
          <a:off x="228600" y="947880"/>
          <a:ext cx="8686800" cy="5267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47880"/>
                    <a:ext cx="8686800" cy="52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6944-6827-40A2-AB2E-B8237C9008C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o O(N^2) Data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788" name="Object 4"/>
          <p:cNvGraphicFramePr/>
          <p:nvPr/>
        </p:nvGraphicFramePr>
        <p:xfrm>
          <a:off x="228600" y="1066680"/>
          <a:ext cx="8686800" cy="502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686800" cy="50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4DA8-5CE3-4DB9-93E3-96056A2568F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ust O(N) and O(NlogN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794" name="Object 8"/>
          <p:cNvGraphicFramePr/>
          <p:nvPr/>
        </p:nvGraphicFramePr>
        <p:xfrm>
          <a:off x="228600" y="1311120"/>
          <a:ext cx="8686800" cy="4540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11120"/>
                    <a:ext cx="8686800" cy="45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9E81-EF78-4DC9-851E-DF4B1BBFBCB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ust O(N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800" name="Object 3"/>
          <p:cNvGraphicFramePr/>
          <p:nvPr/>
        </p:nvGraphicFramePr>
        <p:xfrm>
          <a:off x="380880" y="1066680"/>
          <a:ext cx="8610840" cy="516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861084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C021-3FDE-44F6-9DF4-EA670174BDE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4400" spc="-1" strike="noStrike" baseline="30000">
                <a:solidFill>
                  <a:srgbClr val="ff0000"/>
                </a:solidFill>
                <a:latin typeface="Arial"/>
              </a:rPr>
              <a:t>9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instructions/sec, runtim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806" name=""/>
          <p:cNvGraphicFramePr/>
          <p:nvPr/>
        </p:nvGraphicFramePr>
        <p:xfrm>
          <a:off x="304920" y="934920"/>
          <a:ext cx="8686800" cy="4064040"/>
        </p:xfrm>
        <a:graphic>
          <a:graphicData uri="http://schemas.openxmlformats.org/drawingml/2006/table">
            <a:tbl>
              <a:tblPr/>
              <a:tblGrid>
                <a:gridCol w="1523880"/>
                <a:gridCol w="1681200"/>
                <a:gridCol w="1595520"/>
                <a:gridCol w="1828800"/>
                <a:gridCol w="20574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O(log 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O(N log 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O(N</a:t>
                      </a:r>
                      <a:r>
                        <a:rPr b="0" i="1" lang="en-US" sz="2000" spc="-1" strike="noStrike" baseline="30000">
                          <a:solidFill>
                            <a:srgbClr val="fc0128"/>
                          </a:solidFill>
                          <a:latin typeface="Arial"/>
                        </a:rPr>
                        <a:t>2</a:t>
                      </a:r>
                      <a:r>
                        <a:rPr b="0" i="1" lang="en-US" sz="20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00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0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000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00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006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00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0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00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132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1 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00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166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seco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00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6.7 min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000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.0 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0 seco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1.7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15A6-2A14-4975-9CDC-7ED5656172F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Formal Definition of Big O (repeated)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(N) is O( F(N) ) if there are positive constants c and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ch that T(N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F(N) when 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is the size of the data set the algorithm works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(N) is a function that characterize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t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unning time of the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N) is a function that characterizes an upper bounds on T(N). It is a limit on the running time of the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and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nsta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DD2B-C876-43DD-8988-BFDBB830E4F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More on the Formal Definition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point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that for all values of N that are past this point, T(N) is bounded by some multiple of F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 if T(N) of the algorithm is O( N^2 ) then, ignoring constants, at some point we ca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bou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running time by a quadratic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gorithm it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chnically corr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say the running time is O(N ^ 2). O(N) is a more precise answer as to the Big O of the linear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the caveat “pick the most restrictive function” in Big O typ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unting Statem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228240" y="8380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 // one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12; // one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y = z * x + 3 % 5 * x / i; //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++; // one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p = x &lt; y &amp;&amp; y % 2 == 0 ||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z &gt;= y * x; //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data = new int[100]; //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[50] = x * x + y * y; //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8638-6E67-4B73-844A-E36DCF812C7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456D-E1A7-42A8-BB4A-A9243B45B5B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at it All Mea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(N) is the actual growth rate of th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equated to the number of executable statements in a program or chunk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N) is the function that bounds the growth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upper or lower b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(N) may not necessarily equal F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s and lesser terms ignored because it i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unding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D713-1860-4537-A260-B80FAF52E44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80520" y="-152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ther Algorithmic Analysis Tool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ig Omeg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(N) i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F(N) ) if there are positive constants c and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ch tha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(N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F( N )) when 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O is similar to less than or equal, an upper b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Omega is similar to greater than or equal, a lower b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ig The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(N) i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F(N) ) if and only if T(N) is O( F(N) )and T( N ) i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F(N)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Theta is similar to eq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98C1-85A1-4888-9238-3D0991855B9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lative Rates of Growth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831" name=""/>
          <p:cNvGraphicFramePr/>
          <p:nvPr/>
        </p:nvGraphicFramePr>
        <p:xfrm>
          <a:off x="1066680" y="685800"/>
          <a:ext cx="6934320" cy="4664160"/>
        </p:xfrm>
        <a:graphic>
          <a:graphicData uri="http://schemas.openxmlformats.org/drawingml/2006/table">
            <a:tbl>
              <a:tblPr/>
              <a:tblGrid>
                <a:gridCol w="1676520"/>
                <a:gridCol w="2819520"/>
                <a:gridCol w="24382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is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ematical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Rates of Grow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g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(N) = O( F(N) 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(N)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(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g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(N) =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F(N) 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(N)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(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g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(N) =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F(N) 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(N) = F(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2" name="Text Box 25"/>
          <p:cNvSpPr/>
          <p:nvPr/>
        </p:nvSpPr>
        <p:spPr>
          <a:xfrm>
            <a:off x="1365840" y="5318280"/>
            <a:ext cx="6477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In spite of the additional precision offered by Big Theta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g O is more commonly used, except by research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algorithms analysis field" - Mark Wei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F6FF-6544-4FD1-B35A-99A61239CEB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Clicker 2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utput by the following code?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total = 0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0; i &lt; 13; i++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for (int j = 0; j &lt; 11; j++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total += 2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total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3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228600" y="9907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output when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pre: n &gt;= 0, m &gt;= 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sample(int n, int m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int total = 0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for (int i = 0; i &lt; n; i++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for (int j = 0; j &lt; m; j++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total += 5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System.out.println(total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*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(n * m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* m *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F6F6-4298-4E77-99F3-F7225ADC58D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A6C5-0045-446C-AA2B-05AB9A7BCAF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410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statements are executed by metho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a function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.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N =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.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N is commonly used as a variable that denotes the amount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489600" y="914400"/>
            <a:ext cx="786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total(int[] values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int result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0; i &lt; values.length; i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sult += values[i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 -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6EB5-70E4-496C-949E-25C851CF714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unting Up Statem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4560" y="6858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result = 0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 &lt; values.leng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N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+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sult += values[i]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total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(N) = 3N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(N) is the number of executable statements in metho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function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.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1-01-21T20:32:17Z</dcterms:modified>
  <cp:revision>201</cp:revision>
  <dc:subject/>
  <dc:title>PowerPoint Presentation</dc:title>
</cp:coreProperties>
</file>