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F9F67AE-028F-426D-B13E-9A8FCCE45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2E07064-DD48-4BC6-9A50-57839FA88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DC8-8882-4BFB-BA2B-BADF2C67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874-39FF-4E01-87CA-8AADBF42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316C0-F643-479C-993F-1D48422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B8520-CE7E-43F6-BE16-890ACA3A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C324B-AAB7-4393-A7FA-CE6051BE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DEFE8-0278-453E-AC1E-657E655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72DD7-8715-4F5C-80E3-4437DB7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C4176-B7CE-435B-8663-37D61AE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6917-71CA-46FC-91CD-5BDCAF70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82550-8057-403E-B15A-E74C7218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40190-7A59-476D-8207-9B3886B6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48AA9-ACCA-4C3C-A399-862D2316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47A-1074-4A93-B921-53DD3D18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CD565-1630-400B-AC6D-EE0F1855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78C42-977B-4222-B601-E73CB22B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F4911-2390-498A-B1DD-7DF8186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C822-8F3C-4CF1-985D-6C87440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621DE-AAD3-4A61-B451-0BD0CC3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A3938-CA4E-4430-9FE9-1BB9020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9859E-378A-452D-B049-AC6E07E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9E37-0800-4A9F-8E76-ABA447B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5E1BC-395E-4F6C-8F0C-69AEDAF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FAF1-D2A0-4024-96B7-1CBB3FF2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DB8-ABA9-4240-9D7B-9FF4FE24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430AE-1BE2-4395-B1FD-A8D26500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A8C1-80A9-4EEC-8C69-41A92F30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F9C35-B8B3-4037-AF1A-8ED8F26B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FCFA-B139-4121-942D-4A70CBC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3284-520A-4BDF-87FD-8DCDD744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78F2-B6B5-4EEA-873F-E434C6C9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E036-2CAC-46BE-9EE5-BB13832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68E97-D7F5-4373-A53D-63E700C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9CD28-0E05-4636-A517-0049144A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6039C-BA2B-452F-8C08-BD5E0F6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9357-04B6-4A9C-AA39-B42C2072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FB633-A1F8-40E4-9F89-34505872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DD8D-EA2F-4352-A8AD-97779A97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A1A0-5B6D-48B7-94D5-FAC88F1D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ACECD-0D66-4FCD-B9F8-26B94E7A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AD48D-4996-4D67-8395-39A84E2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6559D-4A2F-4C24-9717-EE18AE02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F666-CF65-485E-8015-13248BF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74101-EC4D-42B6-8411-FD8EF87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229E0-6098-4942-8237-484276F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B6A45-2E00-4635-8F31-A26C0A4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9EDC-4B2C-4615-B528-1971538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D1BA4-DBA2-4CD6-99FC-7A90835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84F2-06B2-4464-8CFD-DA3BB79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DA6EA-1DF4-4572-B3C3-10E5EE22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C6964-C26A-4583-81FD-0024A42D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D1F2A-F0ED-4E8F-8C2A-3510C94D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ED613-7CD1-4A62-B7F1-9EA4356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8BD9A-B324-4D10-B0F6-DB52904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CD532-1928-48E3-8844-310B0E9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DBE4C-67D5-45C1-B52C-FD291063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7A406-4615-4538-93C1-2156F42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30E-4EBF-40D4-9A0A-B65978BF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15617-194B-478E-B86F-D25DDB7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B324F-D0C3-46C1-A542-96FCD39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2C510-39BE-4AF8-9BD8-7B430AC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865BA-FC2B-4D41-9A06-BF25571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FF291-31E9-49BE-9C45-C554CFA9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C14EF-43E6-4B49-8DBA-87A3F0E5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C169F-C87B-4368-BF7B-0F5BEA8D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0C7-D5BF-4904-9E57-6B84012D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1138-F0C4-4E00-8FDD-D6F7E86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A8B5-23DD-4628-A5E5-BAADA170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9F83-2100-4D08-9CB2-0DDF7C2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0C1-8CE3-4858-AF90-386EDBA0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CDBB-D016-46ED-85E5-1F7E211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FE44-1513-46CC-87C7-E8398EB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EE00-FEC3-4E6D-B1BE-F8E67E2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E9EC-A56F-473A-8064-38E71A20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AE43-393B-4808-BC5A-AA25CC6D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DF47-AAA4-4ED5-9011-80C1969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F23B-92B6-4240-AB6F-A224F78A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0920-D000-4960-AD8C-7B6C69C3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F249-929B-4DE2-97F1-808649F4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2331-50C9-4C28-8951-A4911460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B70-426A-4BB9-8C71-2B4DBDA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DB9A-3F5C-413A-8680-91AD9FC0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FFA4-4A3F-4B50-A51F-7372CF9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2CAD-B584-4E80-A6C7-45A3283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73BF-4249-4F02-A412-7E61CAB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61DD-C809-4104-97FD-DBA544E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AA68-FD84-432F-B01F-60931A7D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40EB-F280-4C0E-8E1D-66EF0FAC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168A-D545-4A2D-BCEE-300AAA01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B4A0-7EB2-43F3-A128-B0B4059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898F-EB1E-47A9-B8F3-8A48EFC8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642-0212-460A-BA7E-43FEA27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E960-BA42-4171-92D6-CF431F8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035F-1B6A-4D81-B260-4D4D688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A6CC-FBDC-44D1-A185-0F9DF35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0257-B0C9-494E-B7EC-EAE73C1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CDDB-EA8A-4F63-AAA9-343D772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C4AC-E27E-42B6-9069-B61AE35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267E-9C54-4C3D-BE0B-C95C188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121B-8E89-4224-BA40-C4B31FE0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F34C-A84C-4383-8D80-1138235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42D1-6BE4-47A0-B5A8-7AAD011E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554-2E55-484F-963D-2E10172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1024-1E8C-4E78-BBF6-9A1835F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68DB-8DD8-415A-B9C6-6C4EC22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900A-D132-4356-95EF-107FDE5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64084-18EF-4746-A0F6-FFDADC1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5D88-2CDF-4D6E-B2A1-B9516EDA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F8AD-1DB7-44F4-B9E4-BC85207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643D-2549-4E82-9E8D-A31179D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67BD-5EAF-49F8-BE19-7063026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B9A05-5A7F-4E69-9249-1AE96C84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07A1-16A3-4C8A-AAD5-AD4ACA39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EBE-709D-400C-A018-40AEBC79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719F-1B26-4D90-BD89-CFAC9F1F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AA922-1B31-4C81-BB34-D57FF6B9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3959-AE0D-4096-B637-E586887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ED64-6486-4611-9D0C-001E6368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B53E-4178-4453-BB66-05A8E5BA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19C0-3BBA-4015-891D-5E0CEAD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B7E2A-9DC5-4668-BFB9-9919738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9DD7-533B-4D85-AF99-378CFAC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426F-B3EA-4A0B-8CDB-4310C066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BFA3-BD38-4606-814F-3FEA556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A21-0274-43CB-A3CD-09D4F1C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4895-DD9A-4233-8214-AD68FED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3231-24D7-4AFA-9F42-D0CF1775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E3A4-C34F-401C-BF81-79EAA78D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995F-F042-4053-897E-04C66956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1357-4402-48BD-B91F-AE66CE0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F6D9-DBEB-4CF3-984E-C5237EC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14A3-B6A7-4629-951C-1D2C18A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EFAC-2EA0-4F1C-97D6-EC9F481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BE02-381F-4776-BE24-A5D8010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1D0F0-A946-423D-A544-CAD1F0E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F60-4747-416F-891E-4808899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BA6E9-A14B-4D30-AAF5-53BEBE4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B59DD-E1F5-4AED-98EC-DE3112C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3AD3-D642-4636-B8E9-952E1C2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0028-9411-47A0-A17C-9A87D997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11B8-6437-4064-9075-E155CAB0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56F0-11DD-4784-8742-FFB5C657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B9434-EF8A-4662-B7FD-C7F7C45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9F0CE-8DD8-4FC4-9A85-9DD0A5E7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13D2D-46B0-48FA-A4D2-1D8DFAD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0EA3-44B5-4C7C-9F9E-469E18C9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8D6-3F99-42DF-8653-44CED8F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8107-DCC1-4463-9737-0EDE545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22E77-ED54-4D05-81ED-6ACC8A6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2C387-D1BE-4F9B-9362-22F7F6D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22F9-041B-476D-8950-E9B3BC1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0137-A114-4FFB-AEF3-C27DB353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86208-A3CF-4D92-BF8B-AF80624E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BC12-13B2-4695-A279-8B76A9ED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0CCBD-146D-475E-8D8F-969ACDA6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88429-53C5-4F55-B353-66928F1F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27557-90B9-42A5-A948-E99B9397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330-5CB8-47EB-B238-0D221EA4277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93C-4A3D-48E4-B288-394303823AB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7A5-1BFF-44BE-8B9A-E88EF96AA6A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58C-E681-4F1D-A3EB-5EB61871130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CC2-5DE6-4A1C-BE78-D585E563916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846C-F49B-4B73-9103-5D9A9A3B7DE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EBA8-8C49-4D8E-BECA-71951F4EAB4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564-F12A-4AD2-9AF9-62DE468B9AB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A75-8AF4-4706-971A-91A05CA6299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F6A5-C685-455C-9563-1C20B3D614A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868-5381-4331-A791-854705AFAAB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D31-9C6E-41AD-9DE8-6C111ABB45E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412-F502-4A66-988E-B68A2761F77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tb.org/~esr/jargon/html/T/tune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hlemiel_the_painter&apos;s_Algorithm" TargetMode="External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Number 2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ency – Complexity -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Analys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80520" y="2437920"/>
            <a:ext cx="8458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twiddling: 1. (pejorative) An exercise in tuning (se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which incredible amounts of time and effort go to produce little noticeable improvement, often with the result that the co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incomprehensibl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Hackers Dictionary, version 4.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Simpl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complexity of an algorithm we want to simplif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some details to make comparis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ssigning your grade fo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CS314 your transcript won’t list all the details of your performance in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n’t list scores on all assignments, quizzes,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a letter grade, B- or A or D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focus on the dominant term from the function and ignore the co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C82C-6F32-458B-9BF1-8FDE6B9FD7F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method and notation for discussing the execution time of algorithm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so spok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ymptotic executio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how does the running time of the algorithm grow as a function of the amount of input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is an upper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mathematical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a lot of unimportant details by assigning a simple grade (function) to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AA7C-D3C1-4E98-8168-0A2771271F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l Definition of 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O( F(N) )  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N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the size of the data set the algorithm wor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a function that characteriz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a function that characterizes an upper bounds on T(N). It is a limit on the running time of the algorithm. (The typical Big functions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3C1-0840-4947-BF64-2DEED03B3C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t M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actual growth rate 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quated to the number of executable statements in a program or chun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) is the function that bounds the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pper or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may not necessarily equal F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nd lesser terms ignored because it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94F-BCA6-434F-B8BC-81A9F0CFF4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owing O(N) is Corr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formal definition of Big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O( F(N) ) if there are positive constants 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F(N) when N &gt;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(N)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choos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c = 4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352-8AC9-4EF7-8D71-9925381F51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533520" y="563868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686880" y="57150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axis: N, number of elements in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 flipV="1">
            <a:off x="533520" y="762120"/>
            <a:ext cx="0" cy="487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91160" y="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xis: time for algorithm to complete. (simplifi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xecutable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 flipV="1">
            <a:off x="533520" y="1752120"/>
            <a:ext cx="2438280" cy="3048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318400" y="248904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(N), actual function of number of computations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this case 3N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 flipV="1">
            <a:off x="533520" y="3580920"/>
            <a:ext cx="4190760" cy="2057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492000" y="41148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(N), approximate function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f computations. In this cas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7524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977120" y="5094360"/>
            <a:ext cx="125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 flipV="1">
            <a:off x="533520" y="1142640"/>
            <a:ext cx="1828800" cy="4419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2313360" y="91440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 * F(N), in this case,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 = 4, c * F(N) = 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"/>
          <p:cNvSpPr/>
          <p:nvPr/>
        </p:nvSpPr>
        <p:spPr>
          <a:xfrm flipV="1">
            <a:off x="1752480" y="26668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160-BE11-4DD1-B2DF-793310440B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ypical Big O Functions – "Grades"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09480" y="762120"/>
          <a:ext cx="5791320" cy="54864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 &gt;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nom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quare root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-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Line 44"/>
          <p:cNvSpPr/>
          <p:nvPr/>
        </p:nvSpPr>
        <p:spPr>
          <a:xfrm flipV="1">
            <a:off x="741240" y="5028840"/>
            <a:ext cx="15264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5"/>
          <p:cNvSpPr/>
          <p:nvPr/>
        </p:nvSpPr>
        <p:spPr>
          <a:xfrm flipV="1">
            <a:off x="741240" y="49525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6"/>
          <p:cNvSpPr/>
          <p:nvPr/>
        </p:nvSpPr>
        <p:spPr>
          <a:xfrm>
            <a:off x="812880" y="49546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7"/>
          <p:cNvSpPr/>
          <p:nvPr/>
        </p:nvSpPr>
        <p:spPr>
          <a:xfrm>
            <a:off x="665280" y="5105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8"/>
          <p:cNvSpPr/>
          <p:nvPr/>
        </p:nvSpPr>
        <p:spPr>
          <a:xfrm flipV="1">
            <a:off x="960480" y="365724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49"/>
          <p:cNvSpPr/>
          <p:nvPr/>
        </p:nvSpPr>
        <p:spPr>
          <a:xfrm flipV="1">
            <a:off x="960480" y="35809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0"/>
          <p:cNvSpPr/>
          <p:nvPr/>
        </p:nvSpPr>
        <p:spPr>
          <a:xfrm>
            <a:off x="1031760" y="35830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"/>
          <p:cNvSpPr/>
          <p:nvPr/>
        </p:nvSpPr>
        <p:spPr>
          <a:xfrm>
            <a:off x="884160" y="3733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2"/>
          <p:cNvSpPr/>
          <p:nvPr/>
        </p:nvSpPr>
        <p:spPr>
          <a:xfrm>
            <a:off x="6607080" y="660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Straight Arrow Connector 2"/>
          <p:cNvCxnSpPr/>
          <p:nvPr/>
        </p:nvCxnSpPr>
        <p:spPr>
          <a:xfrm flipH="1" flipV="1">
            <a:off x="7043400" y="1037520"/>
            <a:ext cx="18000" cy="508716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6" name="TextBox 4"/>
          <p:cNvSpPr/>
          <p:nvPr/>
        </p:nvSpPr>
        <p:spPr>
          <a:xfrm>
            <a:off x="7223760" y="4659480"/>
            <a:ext cx="149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g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lowly'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9"/>
          <p:cNvSpPr/>
          <p:nvPr/>
        </p:nvSpPr>
        <p:spPr>
          <a:xfrm>
            <a:off x="7321680" y="1179360"/>
            <a:ext cx="15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g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quickly'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(N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A – C ar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ree of A – C ar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ADE-174C-4597-9F9C-3A74CD11E8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owing Order Briefly …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76320" y="83808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into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 (Now a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25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the choices for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ot uniqu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5E6-E0FF-4C6B-A20B-AA9275E77B6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CC2-140F-47DD-A50E-E29B94DBEB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aling with other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about method c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+= Math.sqr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that method or constructo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the simplified Big O function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sqrt is constant time, O(1), simply cou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 += Math.sqrt(i)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n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finds all the prime numbers between 2 and 1,000,000,000 from scrat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0.37 second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fast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0C6-45A1-464E-B464-841BBBB8D4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3F6-19A5-461F-94EA-82B00EBC0D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aling With Other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foo(int[]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for (int i = 0; i &lt; data.length; i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tal += countDups(data[i], 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method countDups is O(N) where N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length of the array it is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 5, What is the Big O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o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pendent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477000" y="457200"/>
            <a:ext cx="8410320" cy="63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from the Matrix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cale(int facto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r = 0; r &lt; numRows(); r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c = 0; c &lt; numCols();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Cells[r][c] *= fac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Rows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Cols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, a squar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Rows and numCols are O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T(N)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er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at is the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question. What if numRows is O(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B36-2926-46A6-92DC-383B00D674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Count Loops, Righ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118440" y="843120"/>
            <a:ext cx="914184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ssume mat is a 2d array of bool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ssume mat is square with N row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nd N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count(boolean[][] m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ow, int co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umThings = 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 (int r = row - 1; r &lt;= row + 1; r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 (int c = col - 1; c &lt;= col + 1; c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 (mat[r][c]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umThings++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0" y="4952880"/>
            <a:ext cx="9144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is the order of the above method 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O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3A4-48F4-4BEE-AED2-F6BE39FC3C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 is Not Just Counting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econd example from previous slide c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writt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Thing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2A5-C416-4E45-A484-AD08B41C128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detrack, the loga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Dr.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log to the base 3 of 9 is 2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to think about lo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log to the base x of y is the number you can raise x to to get 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to yourself "The log is the exponent." (and say it over and over until you believe i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 we work with base 2 logs,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 =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 = ?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24 = ? 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Date Placeholder 3"/>
          <p:cNvSpPr/>
          <p:nvPr/>
        </p:nvSpPr>
        <p:spPr>
          <a:xfrm>
            <a:off x="45720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e of the log is typically not included as we can switch from one base to another by multiplying by a constant fa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C133-889C-497C-93DD-989E906B33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Do Logarithms Occu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tend to have a logarithmic term when they use a divide and conque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e data set keeps getting divided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foo(int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// pre n &gt;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while (n &gt; 0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 = n /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total++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return tota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er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at is the order of the above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O(log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O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(Nlog 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6324480" y="2143080"/>
            <a:ext cx="25815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0C57-B610-4A83-ABB5-7E07BD81BC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gnificant Improvement – Algorithm with Smaller Big O functio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Given an array of ints replace any element equal to 0 with the maximum positive value to the right of that element. (if no positive value to the right, leave unchange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[0, 9, 0, 13, 0, 0, 7, 1, -1, 0, 1, 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9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13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7, 1, -1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1, 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lace Zeros – Typical Solu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08360" y="457200"/>
            <a:ext cx="914184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replace0s(int[] data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for(int i = 0; i &lt; data.length; 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data[i] == 0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x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j = i+1; j&lt;data.length; j++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  max = Math.max(max, data[j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[i] = max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values are zeros. (worst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endent lo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umber of times j &lt; data.length evalu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8AE-7E73-47BE-9798-29FC583BEB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lace Zeros – Alternate Solu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462960" y="988920"/>
            <a:ext cx="841032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place0s(int[] data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t ma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ax(0, data[data.length – 1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tart = data.length –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start; i &gt;= 0; i--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data[i]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i] =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 = Math.max(max, dat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g O of this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63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(N) really that much faster than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actual functions and the value of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N + 250 compared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we use mechanized compu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,250 &lt; 10,000,000,010 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F64D-AF0F-4760-A8DB-3C5AEA258C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e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7632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cientists don’t just write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icient is a progra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does it take program to compl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emory does a program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change as the amou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ata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the average case and worst case efficiency if 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E4B9-9394-426D-8551-12D2C44DC3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994-AC9D-4B39-87CE-97FBA8D4B0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Useful Propor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F(N) is characterizes the running time of an algorithm the following proportion should hold tr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F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~= tim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tim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that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akes 3 seconds to run given 10,000 pieces of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expect it to take when there are 30,000 pieces of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E96-EFDA-4AA0-9E69-497434A0A4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Use Big O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build data structures Big O is the tool we will use to decide under what conditions one data structure is better tha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performance when there is a lo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worked so well with small data sets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Joel Spolsky, Schlemiel the painter'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trade 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ata structures good for certain types of problems, bad for oth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ble to trade SPACE fo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solution that uses mor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solution that uses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C876-FC68-45B9-B3F5-08A0BE98D0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 O Sp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could be used to specify how much space is needed for a particular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 how many variables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– space trade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take less time if willing to use mor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use less memory if willing to tak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beautiful solutions take less time an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biggest difference between time and space is that you can't reuse time.  - Merrick F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0CE-D97B-4E2D-9645-C1818972C2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antifiers on 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ful to discuss different cases for 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Case: what is the best we can hop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ase (a.k.a. expected running time): what usually happens with the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: what is the worst we can expect of the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interesting to compare this to the averag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7F6B-0CD8-425A-92D4-DF9E10F09D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st, Average, Worst Ca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best, average, and worst case Big O we must make assumptions about th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ase -&gt; what are the properties of the data set that will lead to the fewest number of executable statements (steps in the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 -&gt; what are the properties of the data set that will lead to the largest number of executabl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ase -&gt; Usually this means assuming the data is randomly distrib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f I ran the algorithm a large number of times with different sets of data what would the average amount of work be for those ru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42E-7B4D-4B77-8293-4F4C9C54B1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228600" y="914400"/>
            <a:ext cx="8915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double minimum(double[] values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int n = values.length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double minValue = values[0]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for (int i = 1; i &lt; n; i++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if (values[i] &lt; minValu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 minValue = values[i]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return minValu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120" y="40381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? F(N)? Big O? Best case? Worst Case? Average Ca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other information, assume asking average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BBD-5C30-45FB-9FE7-9CC8AF57C7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of Domin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an extreme example. Assume the actual  number as a function of the amount of dat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10000 + 2N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+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lausible to say the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 dominates even though it is divided by 10000 and that the algorithm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separate the equation into 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10000) and (2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+ 100000) and graph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DB5-CD28-40CD-BAF4-8265DDEBAE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ing Execution 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values of N 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 dominates so the algorithm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es it make sense to use a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4" descr="graph1"/>
          <p:cNvPicPr/>
          <p:nvPr/>
        </p:nvPicPr>
        <p:blipFill>
          <a:blip r:embed="rId1"/>
          <a:stretch/>
        </p:blipFill>
        <p:spPr>
          <a:xfrm>
            <a:off x="762120" y="857160"/>
            <a:ext cx="5410080" cy="349272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5"/>
          <p:cNvSpPr/>
          <p:nvPr/>
        </p:nvSpPr>
        <p:spPr>
          <a:xfrm>
            <a:off x="5796360" y="1608120"/>
            <a:ext cx="29818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line i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Nlog10 N + 1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4880880" y="2712960"/>
            <a:ext cx="17031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line is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/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77AA-E232-4CE9-9347-ED77103E0F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Grad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hav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A solves the problem correctly and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B solves the same problem correctly and is O(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lgorithm is f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ssumptions of Big O is that the data set is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"grades" should be accurate tools if this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F1AF-A626-4274-80C1-053B87D542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nning 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N = 100,000 and processor speed is 1,000,000,000 operation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600200" y="2066760"/>
          <a:ext cx="5943600" cy="396252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,08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1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7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Line 39"/>
          <p:cNvSpPr/>
          <p:nvPr/>
        </p:nvSpPr>
        <p:spPr>
          <a:xfrm flipV="1">
            <a:off x="1906560" y="379836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0"/>
          <p:cNvSpPr/>
          <p:nvPr/>
        </p:nvSpPr>
        <p:spPr>
          <a:xfrm flipV="1">
            <a:off x="1906560" y="41144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1"/>
          <p:cNvSpPr/>
          <p:nvPr/>
        </p:nvSpPr>
        <p:spPr>
          <a:xfrm>
            <a:off x="1981080" y="411480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2"/>
          <p:cNvSpPr/>
          <p:nvPr/>
        </p:nvSpPr>
        <p:spPr>
          <a:xfrm>
            <a:off x="1830240" y="42670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 flipV="1">
            <a:off x="1752480" y="5333760"/>
            <a:ext cx="15264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4"/>
          <p:cNvSpPr/>
          <p:nvPr/>
        </p:nvSpPr>
        <p:spPr>
          <a:xfrm flipV="1">
            <a:off x="1752480" y="52574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5"/>
          <p:cNvSpPr/>
          <p:nvPr/>
        </p:nvSpPr>
        <p:spPr>
          <a:xfrm>
            <a:off x="1824120" y="525924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46"/>
          <p:cNvSpPr/>
          <p:nvPr/>
        </p:nvSpPr>
        <p:spPr>
          <a:xfrm>
            <a:off x="1676520" y="54100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152640" y="83808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approach for thi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 techniques in theory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many computations will this program (method, algorithm) perform to get the answ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pl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algorithms as Jav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executable statements in program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umber of statements as function of th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inant 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9A77-8F41-41FA-B3CF-A6F60657EE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664-7826-4F5F-9611-15AF51C13F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ory to Practice O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ykstra says: "Pictures are for the Weak."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533520" y="1447920"/>
          <a:ext cx="8381880" cy="421164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914400"/>
                <a:gridCol w="828720"/>
                <a:gridCol w="931680"/>
                <a:gridCol w="933480"/>
                <a:gridCol w="932040"/>
                <a:gridCol w="930240"/>
                <a:gridCol w="930240"/>
              </a:tblGrid>
              <a:tr h="562320"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lo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/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5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27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2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74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9 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3,957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33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12k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1 h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896k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7.2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8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Text Box 452"/>
          <p:cNvSpPr/>
          <p:nvPr/>
        </p:nvSpPr>
        <p:spPr>
          <a:xfrm>
            <a:off x="1677240" y="579132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 in Seconds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dicates predicate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97B-7C53-4777-BA30-6493FA8973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e between Data Poi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228600" y="1143000"/>
          <a:ext cx="8686800" cy="4514760"/>
        </p:xfrm>
        <a:graphic>
          <a:graphicData uri="http://schemas.openxmlformats.org/drawingml/2006/table">
            <a:tbl>
              <a:tblPr/>
              <a:tblGrid>
                <a:gridCol w="1066680"/>
                <a:gridCol w="614520"/>
                <a:gridCol w="774720"/>
                <a:gridCol w="703080"/>
                <a:gridCol w="789120"/>
                <a:gridCol w="792000"/>
                <a:gridCol w="790560"/>
                <a:gridCol w="787680"/>
                <a:gridCol w="790560"/>
                <a:gridCol w="788760"/>
                <a:gridCol w="789120"/>
              </a:tblGrid>
              <a:tr h="666720"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lo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/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Text Box 795"/>
          <p:cNvSpPr/>
          <p:nvPr/>
        </p:nvSpPr>
        <p:spPr>
          <a:xfrm>
            <a:off x="2247120" y="5715000"/>
            <a:ext cx="539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btained by Ti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Ti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459-79FA-4823-9CF9-E5E1C0C6FC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kay, Pictur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76" name="Object 4"/>
          <p:cNvGraphicFramePr/>
          <p:nvPr/>
        </p:nvGraphicFramePr>
        <p:xfrm>
          <a:off x="228600" y="947880"/>
          <a:ext cx="8686800" cy="52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68680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3C4-C56C-4528-8ACB-9573AC2CA7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ut a Cap on Ti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82" name="Object 3"/>
          <p:cNvGraphicFramePr/>
          <p:nvPr/>
        </p:nvGraphicFramePr>
        <p:xfrm>
          <a:off x="228600" y="947880"/>
          <a:ext cx="8686800" cy="52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68680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8C6-36B0-43AF-B757-FDB5023F02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 O(N^2) Dat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88" name="Object 4"/>
          <p:cNvGraphicFramePr/>
          <p:nvPr/>
        </p:nvGraphicFramePr>
        <p:xfrm>
          <a:off x="228600" y="1066680"/>
          <a:ext cx="868680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98D-2D02-4FEF-BF8E-C1F68A9D59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O(N) and O(NlogN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94" name="Object 8"/>
          <p:cNvGraphicFramePr/>
          <p:nvPr/>
        </p:nvGraphicFramePr>
        <p:xfrm>
          <a:off x="228600" y="1311120"/>
          <a:ext cx="8686800" cy="45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11120"/>
                    <a:ext cx="868680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DA3F-CEF4-4521-8980-9230F0F0EF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O(N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80880" y="1066680"/>
          <a:ext cx="861084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61084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C228-C0B3-4BA9-A0C7-65616245BE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nstructions/sec, run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04920" y="934920"/>
          <a:ext cx="868680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1681200"/>
                <a:gridCol w="1595520"/>
                <a:gridCol w="1828800"/>
                <a:gridCol w="2057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log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 log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</a:t>
                      </a:r>
                      <a:r>
                        <a:rPr b="0" i="1" lang="en-US" sz="2000" spc="-1" strike="noStrike" baseline="30000">
                          <a:solidFill>
                            <a:srgbClr val="fc0128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32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1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66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.7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0 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1.7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CDA-CD09-4C06-BA5D-6A62C51818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mal Definition of Big O (repeated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O( F(N) )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N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the size of the data set the algorithm wor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a function that characteriz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a function that characterizes an upper bounds on T(N). It is a limit on the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0C75-7C20-482A-B050-6805840B7F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re on the Formal Defini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point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for all values of N that are past this point, T(N) is bounded by some multiple of 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f T(N) of the algorithm is O( N^2 ) then, ignoring constants, at some point we c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unning time by a quadrat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cally 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ay the running time is O(N ^ 2). O(N) is a more precise answer as to the Big O of the linear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aveat “pick the most restrictive function” in Big O typ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Stat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12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z * x + 3 % 5 * x / i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p = x &lt; y &amp;&amp; y % 2 == 0 ||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z &gt;= y * x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data = new int[100]; //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50] = x * x + y * y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CC3C-6781-4655-BC92-F76DD63D55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16B-639E-4A1E-A6E3-99981DB334F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t All M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actual growth rate 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quated to the number of executable statements in a program or chun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) is the function that bounds the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pper or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may not necessarily equal F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nd lesser terms ignored because it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55D5-864E-4604-A65C-2BDBEA130C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Algorithmic Analysis To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Omeg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 N )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O is similar to less than or equal, an upper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Omega is similar to greater than or equal, a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(N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 if and only if T(N) is O( F(N) )and T( N 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Theta is similar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94B-60A8-4645-BE1E-F86B8A6429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lative Rates of Growt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066680" y="685800"/>
          <a:ext cx="6934320" cy="4664160"/>
        </p:xfrm>
        <a:graphic>
          <a:graphicData uri="http://schemas.openxmlformats.org/drawingml/2006/table">
            <a:tbl>
              <a:tblPr/>
              <a:tblGrid>
                <a:gridCol w="1676520"/>
                <a:gridCol w="2819520"/>
                <a:gridCol w="2438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ca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Rates of Grow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O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Text Box 25"/>
          <p:cNvSpPr/>
          <p:nvPr/>
        </p:nvSpPr>
        <p:spPr>
          <a:xfrm>
            <a:off x="1365840" y="5318280"/>
            <a:ext cx="647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In spite of the additional precision offered by Big Thet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O is more commonly used, except by research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lgorithms analysis field" - Mark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1932-11AB-441F-88A9-5023C0391D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13; i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for (int j = 0; j &lt; 11; j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total +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otal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utput when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re: n &gt;= 0, m &gt;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sample(int n, int m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for (int i = 0; i &lt; n; i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for (int j = 0; j &lt; m; j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total +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System.out.println(total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*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(n * 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* m *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1A3-6522-41FD-99F2-6DE11FDBC5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821-21A5-45C4-A7AA-4DD9ED041D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410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tatements are executed by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 is commonly used as a variable that denotes th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89600" y="914400"/>
            <a:ext cx="786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total(int[] value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int resul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values.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+= values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6556-5A2B-4AB3-A8EC-D3D93B3072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Up Stat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0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&lt; values.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+= values[i]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number of executable statements in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func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1-21T20:32:17Z</dcterms:modified>
  <cp:revision>201</cp:revision>
  <dc:subject/>
  <dc:title>PowerPoint Presentation</dc:title>
</cp:coreProperties>
</file>