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0EA43EA6-866A-44E7-BC42-33A5A43137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30A0D57B-42FE-442F-A061-A00A169E82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7E9A-FB3F-43F2-AA10-5580D299F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BB72-6A8D-42AE-930C-5D801645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103E-B89E-4687-97B0-F2BAED3A1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60AA-343A-4435-B3B1-376036F2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7E7C-9671-47FF-AA3D-DD9ED60D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343C-3929-4792-915C-8F0D1614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17D6-3103-4E12-8702-85715B88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8D41-5233-4537-9F2B-4088E460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AF2C-5F6C-4DAF-93F9-CD9E90A4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4771-5CDC-493D-BE7B-F709D8B2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97FB-6B94-4417-8E7A-C376B71E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1D09-0063-46B8-AFDE-ACAEB983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F861-5339-47D7-91E3-01BD70EAFDB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ytimes.com/2005/08/26/world/americas/26iht-denver.html" TargetMode="External"/><Relationship Id="rId2" Type="http://schemas.openxmlformats.org/officeDocument/2006/relationships/hyperlink" Target="http://homepages.inf.ed.ac.uk/perdita/Book/ariane5rep.html" TargetMode="External"/><Relationship Id="rId3" Type="http://schemas.openxmlformats.org/officeDocument/2006/relationships/hyperlink" Target="http://www.wired.com/software/coolapps/news/2005/11/69355?currentPage=2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opic 3</a:t>
            </a:r>
            <a:br>
              <a:rPr sz="44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ncapsulation - Implementing Classes</a:t>
            </a:r>
            <a:br>
              <a:rPr sz="36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1828440"/>
            <a:ext cx="716256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so, from Europe, we get things such as ... object-oriented analysis and design (a clever way of breaking up software programming instructions and data into small, reusable objects, based on certain abstraction principles and design hierarchies.)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Michael A. Cusumano,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Business Of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"/>
          <p:cNvPicPr/>
          <p:nvPr/>
        </p:nvPicPr>
        <p:blipFill>
          <a:blip r:embed="rId1"/>
          <a:stretch/>
        </p:blipFill>
        <p:spPr>
          <a:xfrm>
            <a:off x="7545240" y="4572000"/>
            <a:ext cx="1598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802F-AA45-43CD-AA90-09376A61349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List Desig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new, empty Int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w IntList -&gt; [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bove is not code. It is a notation that shows what the results of operations.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empty l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o a li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].add(1) -&gt; [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1].add(5) -&gt; [1, 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1, 5].add(4) -&gt; [1, 5, 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s in a list have a definite order and a pos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 based position or 1 based positio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IntList Clas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nce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onditions, exceptions, postconditions, ass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ing of sta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3B17-CAE0-454A-9AE0-FB1A453619D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IntList Clas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ware the performance of String concatenation” – Joshua Blo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metho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pos, int val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method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p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All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pos, IntList oth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s and queens of the Int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1CCF-2B86-4F06-9641-CA673558D8E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licker 3 - Timing Experiment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51920" y="457200"/>
            <a:ext cx="94489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N elements to an initially empty IntList then call toString. Time both events. How does the time to add compare to the time to complete toStr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List list = new IntList()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N; i++)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.add(i); // resize, cap * 2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 = list.toString(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to add &lt;&lt; time for toString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to add &lt; time for toString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to add ~= time for toString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to add &gt; time for toString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to add &gt;&gt; time for toString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027F-C532-4987-A1A3-021B3298CC7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stance Variabl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called instance variables because every instance (object) of this class has its own copy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to store the elements of th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of internal storage contain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t what else i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be clear on the difference between the internal data of an IntList object and the IntList that is being repres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make internal data priv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E1A0-E0ED-42DF-98AB-D699E4F9311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686520" y="3581280"/>
            <a:ext cx="19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42, 12, 37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52640" y="2438280"/>
            <a:ext cx="279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 view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of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3352680" y="1905120"/>
            <a:ext cx="914400" cy="4267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144080" y="4952880"/>
            <a:ext cx="20232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ll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4724280" y="457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602000" y="304920"/>
            <a:ext cx="475272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List aList = new IntList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ist.add(4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ist.add(1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ist.add(37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4495680" y="1295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4572000" y="1905120"/>
            <a:ext cx="6094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5562720" y="2438280"/>
            <a:ext cx="3429000" cy="1981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5"/>
          <p:cNvSpPr/>
          <p:nvPr/>
        </p:nvSpPr>
        <p:spPr>
          <a:xfrm>
            <a:off x="5562720" y="28954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6477480" y="24382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5716800" y="2971800"/>
            <a:ext cx="155232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ta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6629400" y="2971800"/>
            <a:ext cx="106668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1"/>
          <p:cNvSpPr/>
          <p:nvPr/>
        </p:nvSpPr>
        <p:spPr>
          <a:xfrm>
            <a:off x="7315200" y="3733920"/>
            <a:ext cx="11430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3"/>
          <p:cNvSpPr/>
          <p:nvPr/>
        </p:nvSpPr>
        <p:spPr>
          <a:xfrm>
            <a:off x="6935760" y="2971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30"/>
          <p:cNvGrpSpPr/>
          <p:nvPr/>
        </p:nvGrpSpPr>
        <p:grpSpPr>
          <a:xfrm>
            <a:off x="4495680" y="5105520"/>
            <a:ext cx="914400" cy="533160"/>
            <a:chOff x="4495680" y="5105520"/>
            <a:chExt cx="914400" cy="533160"/>
          </a:xfrm>
        </p:grpSpPr>
        <p:sp>
          <p:nvSpPr>
            <p:cNvPr id="138" name="Rectangle 24"/>
            <p:cNvSpPr/>
            <p:nvPr/>
          </p:nvSpPr>
          <p:spPr>
            <a:xfrm>
              <a:off x="4495680" y="5105520"/>
              <a:ext cx="91440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4952880" y="51055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31"/>
          <p:cNvGrpSpPr/>
          <p:nvPr/>
        </p:nvGrpSpPr>
        <p:grpSpPr>
          <a:xfrm>
            <a:off x="5410080" y="5105520"/>
            <a:ext cx="914400" cy="533160"/>
            <a:chOff x="5410080" y="5105520"/>
            <a:chExt cx="914400" cy="533160"/>
          </a:xfrm>
        </p:grpSpPr>
        <p:sp>
          <p:nvSpPr>
            <p:cNvPr id="141" name="Rectangle 32"/>
            <p:cNvSpPr/>
            <p:nvPr/>
          </p:nvSpPr>
          <p:spPr>
            <a:xfrm>
              <a:off x="5410080" y="5105520"/>
              <a:ext cx="91440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33"/>
            <p:cNvSpPr/>
            <p:nvPr/>
          </p:nvSpPr>
          <p:spPr>
            <a:xfrm>
              <a:off x="5867280" y="51055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34"/>
          <p:cNvGrpSpPr/>
          <p:nvPr/>
        </p:nvGrpSpPr>
        <p:grpSpPr>
          <a:xfrm>
            <a:off x="6324480" y="5105520"/>
            <a:ext cx="914400" cy="533160"/>
            <a:chOff x="6324480" y="5105520"/>
            <a:chExt cx="914400" cy="533160"/>
          </a:xfrm>
        </p:grpSpPr>
        <p:sp>
          <p:nvSpPr>
            <p:cNvPr id="144" name="Rectangle 35"/>
            <p:cNvSpPr/>
            <p:nvPr/>
          </p:nvSpPr>
          <p:spPr>
            <a:xfrm>
              <a:off x="6324480" y="5105520"/>
              <a:ext cx="91440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36"/>
            <p:cNvSpPr/>
            <p:nvPr/>
          </p:nvSpPr>
          <p:spPr>
            <a:xfrm>
              <a:off x="6781680" y="51055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37"/>
          <p:cNvGrpSpPr/>
          <p:nvPr/>
        </p:nvGrpSpPr>
        <p:grpSpPr>
          <a:xfrm>
            <a:off x="7238880" y="5105520"/>
            <a:ext cx="914400" cy="533160"/>
            <a:chOff x="7238880" y="5105520"/>
            <a:chExt cx="914400" cy="533160"/>
          </a:xfrm>
        </p:grpSpPr>
        <p:sp>
          <p:nvSpPr>
            <p:cNvPr id="147" name="Rectangle 38"/>
            <p:cNvSpPr/>
            <p:nvPr/>
          </p:nvSpPr>
          <p:spPr>
            <a:xfrm>
              <a:off x="7238880" y="5105520"/>
              <a:ext cx="91440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39"/>
            <p:cNvSpPr/>
            <p:nvPr/>
          </p:nvSpPr>
          <p:spPr>
            <a:xfrm>
              <a:off x="7696080" y="51055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40"/>
          <p:cNvGrpSpPr/>
          <p:nvPr/>
        </p:nvGrpSpPr>
        <p:grpSpPr>
          <a:xfrm>
            <a:off x="8153280" y="5105520"/>
            <a:ext cx="914400" cy="533160"/>
            <a:chOff x="8153280" y="5105520"/>
            <a:chExt cx="914400" cy="533160"/>
          </a:xfrm>
        </p:grpSpPr>
        <p:sp>
          <p:nvSpPr>
            <p:cNvPr id="150" name="Rectangle 41"/>
            <p:cNvSpPr/>
            <p:nvPr/>
          </p:nvSpPr>
          <p:spPr>
            <a:xfrm>
              <a:off x="8153280" y="5105520"/>
              <a:ext cx="91440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42"/>
            <p:cNvSpPr/>
            <p:nvPr/>
          </p:nvSpPr>
          <p:spPr>
            <a:xfrm>
              <a:off x="8610480" y="51055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43"/>
          <p:cNvSpPr/>
          <p:nvPr/>
        </p:nvSpPr>
        <p:spPr>
          <a:xfrm>
            <a:off x="4578840" y="5183280"/>
            <a:ext cx="432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2 12  37  0   0   0  0   0   0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5"/>
          <p:cNvSpPr/>
          <p:nvPr/>
        </p:nvSpPr>
        <p:spPr>
          <a:xfrm>
            <a:off x="4800600" y="2362320"/>
            <a:ext cx="76212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6"/>
          <p:cNvSpPr/>
          <p:nvPr/>
        </p:nvSpPr>
        <p:spPr>
          <a:xfrm flipH="1">
            <a:off x="4723920" y="4038480"/>
            <a:ext cx="2971800" cy="1067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7"/>
          <p:cNvSpPr/>
          <p:nvPr/>
        </p:nvSpPr>
        <p:spPr>
          <a:xfrm>
            <a:off x="4502880" y="5791320"/>
            <a:ext cx="444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  1   2   3  4   5   6   7  8  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4BBA-0A73-4739-B8D3-88CCAEE95E7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nstructor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initialization of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List constru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apac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irecting to another constr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is(1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con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B63C-FE4E-4922-BCE2-C44EE388317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fault add metho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ad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not enough sp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].add(3) -&gt; [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3].add(5) -&gt; [3, 5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3, 5].add(3) -&gt; [3, 5, 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, testing, test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would be us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6791-6036-4E0C-8E70-622E16491B1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oString metho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a Java String of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ty list -&gt;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element -&gt;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12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elements -&gt;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12, 0, 5, 4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ware the performance of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ate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Build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BB28-177C-4BF4-B64A-558A91C7256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Question 4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output by the following code?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List lis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ist = new IntList(25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ln(list.size(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. unkn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. No output due to runtime err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bject Oriented Programm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large programs that work turns out to be very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DIA Automated baggage handl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Ariane 5 Flight 50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oriented programming is one way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naging the complexit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rogramming and software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 up big problems into smaller, more manageable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C8CD-9492-4C09-B732-C3BEC5F3280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3F68-18CF-4EB8-973F-2668324A9F0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et and size metho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element from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ondi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3, 5, 2].get(0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3, 5, 2].get(1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elements in th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confuse with the capacity of the internal storage 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ray is not the lis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4, 5, 2].size(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0A18-AACF-4A98-9E62-56DAE0E825F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sert metho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t someplace besides th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3, 5].insert(1, 4) -&gt; [3, 4, 5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3, 4, 5].insert(0, 4) -&gt; [4, 3, 4, 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ondi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oad ad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ce for internal loose cou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745360" y="2209680"/>
            <a:ext cx="27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5"/>
          <p:cNvSpPr/>
          <p:nvPr/>
        </p:nvSpPr>
        <p:spPr>
          <a:xfrm flipV="1">
            <a:off x="3276720" y="19051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6"/>
          <p:cNvSpPr/>
          <p:nvPr/>
        </p:nvSpPr>
        <p:spPr>
          <a:xfrm flipH="1" flipV="1">
            <a:off x="4647960" y="1905120"/>
            <a:ext cx="2286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CF0E-F1D3-4670-9048-88F9BF18DA2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5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output by the following code?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List list = new IntList(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ist.add(3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ist.insert(0, 4); // position, val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ist.insert(1, 1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ist.add(5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ist.insert(2, 9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ln(lis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4, 1, 3, 9, 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3, 4, 1, 5, 9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4, 1, 9, 3, 5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3, 1, 4, 9, 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 Something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2BED-D65D-4E4D-A63E-9B40A3AB060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move metho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an element from the list based on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3, 4, 5].remove(0) -&gt; [4, 5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3, 5, 6, 1, 2].remove(2) 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3, 5, 1, 2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ondi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val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or methods, mutator methods, and mutator methods that return a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B9C5-0E09-4233-A7E0-5FD7A88D564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Question 6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output by the following code?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List list = new IntList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.add(12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.add(15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.add(12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.add(17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.remove(1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lis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15, 17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12, 17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12, 0, 12, 17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12, 12, 17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15, 12, 17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1F35-F985-4ACF-A811-6E2929006A9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sertAll metho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ll elements of one list to another starting at a specified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5, 3, 7].insertAll(2, [2, 3]) 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5, 3, 2, 3, 7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rameter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2, 3]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be unchang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with other objects of the same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is private priv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se coupling vs.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-15264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7 - InsertAll First Vers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order of the first version of InsertAll? Assume both lists have N elements and that the insert position is halfway through the calling l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log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B869-2C06-4EDD-B42A-4B2E6977D82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305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lass Design and Implementation – Another Example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example will not be covered in cla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D7FB-13B6-474D-9A84-049DE31A3B1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Die Clas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a class us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odel a 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interface? Wha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s should a die be abl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erfor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thods or behaviors can be broken up into constructors, mutators, acces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j0197530"/>
          <p:cNvPicPr/>
          <p:nvPr/>
        </p:nvPicPr>
        <p:blipFill>
          <a:blip r:embed="rId1"/>
          <a:stretch/>
        </p:blipFill>
        <p:spPr>
          <a:xfrm>
            <a:off x="6172200" y="401760"/>
            <a:ext cx="28195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2CC0-79FB-4B6B-BFCE-F27CFEA598F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Die Class Interfac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ors (used in creation of objec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, single int parameter to specify the number of sides, int and boolean to determine if should ro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tors (change state of objec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ors (do not change state of objec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Result, getNumSides, to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con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_S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E106-FE5A-4F99-B17D-70602ECB267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bject Oriented Programm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Object-oriented programming is a method of programming based on a hierarchy of classes, and well-defined and cooperating objects. 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 cl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A class is a structure that defines the data and the methods to work on that data. When you write programs in the Java language, all program data is wrapped in a class, whether it is a class you write or a class you use from the Java platform API libraries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w data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00D7-0E17-49EC-8540-D9F87E6231F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isibility Modifier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1920" y="76212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arts of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ve visibility mod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key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rotected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vate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 modifier means package ac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use these modifiers on local variables (syntax err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ans that constructor, method, or field may be accessed outside of the cla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of the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ors and methods are generally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ans that part of the class is hidden and inaccessible by code outside of th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of the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ields are generally 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6CDD-7E1B-4DB9-AA7D-3E454309265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Die Class Implement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is made up of constructor code, method code, and private data members of the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pe of data members / instanc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vate data members may be used in any of the constructors or methods of a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is hidden from users of a class and can be changed without changing the interface or affecting clients (other classes that use this cla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 Previous version of Die class, DieVersion1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Die class completed can be used in anything requiring a Die or situation requiring random numbers between 1 and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Tester class.  What does it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Date Placeholder 2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oter Placeholder 3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C39E-F21D-40FB-99C5-38022E5C2E6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ieTester metho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-772920" y="1523880"/>
            <a:ext cx="932472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nal int NUM_ROLLS = 5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nal int TEN_SIDED =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e d1 = new Di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e d2 = new Di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e d3 = new Die(TEN_SIDE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nal int MAX_ROLL = d1.getNumSides() +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2.getNumSides() + d3.getNumSides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nt i = 0; i &lt; NUM_ROLLS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1.rol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2.rol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d1: " + d1.getResult()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" d2: " + d2.getResult() + " Total: "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(d1.getResult() + d2.getResult() )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Date Placeholder 2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3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6D2D-46A6-4144-AA98-21392BB0D03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ieTester continue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380880" y="1143000"/>
            <a:ext cx="8915400" cy="35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total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Rolls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1.rol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2.rol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3.rol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tal = d1.getResult() + d2.getResult()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d3.getResul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Rolls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total != MAX_ROL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\n\nNumber of rolls to get "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MAX_ROLL + " was " + numRoll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7EF4-6F96-4800-A818-859D0F27962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rrectness Sidetrack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reating the public interface of a class give careful thought and consideration to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r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ou are creating between yourself and users (other programmers) of your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condi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state what you assume to be true before a method is ca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r of the method is responsible for making sure these are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os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di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state what you guarantee to be true after the method is done if the preconditions are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r of the method is responsible for making sure these are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C13D-DF65-4DE8-8F6B-D732529AB1F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econdition and Postcondition Examp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376200" y="1482840"/>
            <a:ext cx="856260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* pre: numSides 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: getResult() = 1, getNumSides() = si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Die(int numS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   assert (numSides &gt; 1) : “Violation of precondition: Die(int)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yNumSides = numSid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yResult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 getResult() == 1 &amp;&amp; getNumSides() == numSid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79CD-AAB1-400C-A057-6B19838ADFF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bject Behavior - Instanti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he DieTester cla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e d1 = new Die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e d2 = new Die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e d3 = new Die(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new operator is invoked control is transferred to the Die class and the specified constructor is executed, based on parameter ma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ce(memory) is set aside for the new object's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mory address of the new object is passed back and stored in the object variable (poin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reating the object, methods may be called on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2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3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15BA-CDBA-4961-ADFC-0EE1ABB0711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"/>
          <p:cNvSpPr/>
          <p:nvPr/>
        </p:nvSpPr>
        <p:spPr>
          <a:xfrm>
            <a:off x="3281400" y="838080"/>
            <a:ext cx="0" cy="5334120"/>
          </a:xfrm>
          <a:prstGeom prst="line">
            <a:avLst/>
          </a:prstGeom>
          <a:ln w="254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reating Dice Objec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3814920" y="838080"/>
            <a:ext cx="3359160" cy="1685160"/>
            <a:chOff x="3814920" y="838080"/>
            <a:chExt cx="3359160" cy="1685160"/>
          </a:xfrm>
        </p:grpSpPr>
        <p:grpSp>
          <p:nvGrpSpPr>
            <p:cNvPr id="268" name="Group 5"/>
            <p:cNvGrpSpPr/>
            <p:nvPr/>
          </p:nvGrpSpPr>
          <p:grpSpPr>
            <a:xfrm>
              <a:off x="3814920" y="838080"/>
              <a:ext cx="3276720" cy="1675800"/>
              <a:chOff x="3814920" y="838080"/>
              <a:chExt cx="3276720" cy="1675800"/>
            </a:xfrm>
          </p:grpSpPr>
          <p:sp>
            <p:nvSpPr>
              <p:cNvPr id="269" name="Rectangle 6"/>
              <p:cNvSpPr/>
              <p:nvPr/>
            </p:nvSpPr>
            <p:spPr>
              <a:xfrm>
                <a:off x="3814920" y="838080"/>
                <a:ext cx="3276720" cy="1675800"/>
              </a:xfrm>
              <a:prstGeom prst="rect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7"/>
              <p:cNvSpPr/>
              <p:nvPr/>
            </p:nvSpPr>
            <p:spPr>
              <a:xfrm>
                <a:off x="3819960" y="1240200"/>
                <a:ext cx="32659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Text Box 8"/>
              <p:cNvSpPr/>
              <p:nvPr/>
            </p:nvSpPr>
            <p:spPr>
              <a:xfrm>
                <a:off x="4158720" y="896400"/>
                <a:ext cx="237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a Die objec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Rectangle 9"/>
            <p:cNvSpPr/>
            <p:nvPr/>
          </p:nvSpPr>
          <p:spPr>
            <a:xfrm>
              <a:off x="4163040" y="1441440"/>
              <a:ext cx="802440" cy="669960"/>
            </a:xfrm>
            <a:prstGeom prst="rect">
              <a:avLst/>
            </a:prstGeom>
            <a:noFill/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0"/>
            <p:cNvSpPr/>
            <p:nvPr/>
          </p:nvSpPr>
          <p:spPr>
            <a:xfrm>
              <a:off x="4016520" y="212436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iMyS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1"/>
            <p:cNvSpPr/>
            <p:nvPr/>
          </p:nvSpPr>
          <p:spPr>
            <a:xfrm>
              <a:off x="5621760" y="212292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iMyResul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2"/>
            <p:cNvSpPr/>
            <p:nvPr/>
          </p:nvSpPr>
          <p:spPr>
            <a:xfrm>
              <a:off x="4403880" y="15080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3"/>
            <p:cNvSpPr/>
            <p:nvPr/>
          </p:nvSpPr>
          <p:spPr>
            <a:xfrm>
              <a:off x="5821200" y="1441440"/>
              <a:ext cx="802440" cy="669960"/>
            </a:xfrm>
            <a:prstGeom prst="rect">
              <a:avLst/>
            </a:prstGeom>
            <a:noFill/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4"/>
            <p:cNvSpPr/>
            <p:nvPr/>
          </p:nvSpPr>
          <p:spPr>
            <a:xfrm>
              <a:off x="6089040" y="15080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15"/>
          <p:cNvGrpSpPr/>
          <p:nvPr/>
        </p:nvGrpSpPr>
        <p:grpSpPr>
          <a:xfrm>
            <a:off x="3814920" y="2743200"/>
            <a:ext cx="3317400" cy="1678320"/>
            <a:chOff x="3814920" y="2743200"/>
            <a:chExt cx="3317400" cy="1678320"/>
          </a:xfrm>
        </p:grpSpPr>
        <p:grpSp>
          <p:nvGrpSpPr>
            <p:cNvPr id="279" name="Group 16"/>
            <p:cNvGrpSpPr/>
            <p:nvPr/>
          </p:nvGrpSpPr>
          <p:grpSpPr>
            <a:xfrm>
              <a:off x="3814920" y="2743200"/>
              <a:ext cx="3200400" cy="1650960"/>
              <a:chOff x="3814920" y="2743200"/>
              <a:chExt cx="3200400" cy="1650960"/>
            </a:xfrm>
          </p:grpSpPr>
          <p:sp>
            <p:nvSpPr>
              <p:cNvPr id="280" name="Rectangle 17"/>
              <p:cNvSpPr/>
              <p:nvPr/>
            </p:nvSpPr>
            <p:spPr>
              <a:xfrm>
                <a:off x="3814920" y="2793960"/>
                <a:ext cx="3200400" cy="1600200"/>
              </a:xfrm>
              <a:prstGeom prst="rect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18"/>
              <p:cNvSpPr/>
              <p:nvPr/>
            </p:nvSpPr>
            <p:spPr>
              <a:xfrm>
                <a:off x="3819600" y="3178080"/>
                <a:ext cx="31906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19"/>
              <p:cNvSpPr/>
              <p:nvPr/>
            </p:nvSpPr>
            <p:spPr>
              <a:xfrm>
                <a:off x="4151160" y="2743200"/>
                <a:ext cx="237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a Die objec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Rectangle 20"/>
            <p:cNvSpPr/>
            <p:nvPr/>
          </p:nvSpPr>
          <p:spPr>
            <a:xfrm>
              <a:off x="4154400" y="3370320"/>
              <a:ext cx="784440" cy="639720"/>
            </a:xfrm>
            <a:prstGeom prst="rect">
              <a:avLst/>
            </a:prstGeom>
            <a:noFill/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1"/>
            <p:cNvSpPr/>
            <p:nvPr/>
          </p:nvSpPr>
          <p:spPr>
            <a:xfrm>
              <a:off x="4011480" y="402264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iMyS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22"/>
            <p:cNvSpPr/>
            <p:nvPr/>
          </p:nvSpPr>
          <p:spPr>
            <a:xfrm>
              <a:off x="5580000" y="402264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iMyResul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23"/>
            <p:cNvSpPr/>
            <p:nvPr/>
          </p:nvSpPr>
          <p:spPr>
            <a:xfrm>
              <a:off x="4390560" y="34336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5773680" y="3370320"/>
              <a:ext cx="784440" cy="639720"/>
            </a:xfrm>
            <a:prstGeom prst="rect">
              <a:avLst/>
            </a:prstGeom>
            <a:noFill/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25"/>
            <p:cNvSpPr/>
            <p:nvPr/>
          </p:nvSpPr>
          <p:spPr>
            <a:xfrm>
              <a:off x="6036840" y="34336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26"/>
          <p:cNvGrpSpPr/>
          <p:nvPr/>
        </p:nvGrpSpPr>
        <p:grpSpPr>
          <a:xfrm>
            <a:off x="3814920" y="4565520"/>
            <a:ext cx="3317400" cy="1684800"/>
            <a:chOff x="3814920" y="4565520"/>
            <a:chExt cx="3317400" cy="1684800"/>
          </a:xfrm>
        </p:grpSpPr>
        <p:grpSp>
          <p:nvGrpSpPr>
            <p:cNvPr id="290" name="Group 27"/>
            <p:cNvGrpSpPr/>
            <p:nvPr/>
          </p:nvGrpSpPr>
          <p:grpSpPr>
            <a:xfrm>
              <a:off x="3814920" y="4565520"/>
              <a:ext cx="3200400" cy="1676520"/>
              <a:chOff x="3814920" y="4565520"/>
              <a:chExt cx="3200400" cy="1676520"/>
            </a:xfrm>
          </p:grpSpPr>
          <p:sp>
            <p:nvSpPr>
              <p:cNvPr id="291" name="Rectangle 28"/>
              <p:cNvSpPr/>
              <p:nvPr/>
            </p:nvSpPr>
            <p:spPr>
              <a:xfrm>
                <a:off x="3814920" y="4565520"/>
                <a:ext cx="3200400" cy="1676520"/>
              </a:xfrm>
              <a:prstGeom prst="rect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29"/>
              <p:cNvSpPr/>
              <p:nvPr/>
            </p:nvSpPr>
            <p:spPr>
              <a:xfrm>
                <a:off x="3819600" y="4967280"/>
                <a:ext cx="31906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 Box 30"/>
              <p:cNvSpPr/>
              <p:nvPr/>
            </p:nvSpPr>
            <p:spPr>
              <a:xfrm>
                <a:off x="4151160" y="4572000"/>
                <a:ext cx="237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a Die objec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Rectangle 31"/>
            <p:cNvSpPr/>
            <p:nvPr/>
          </p:nvSpPr>
          <p:spPr>
            <a:xfrm>
              <a:off x="4154400" y="5168880"/>
              <a:ext cx="784440" cy="669960"/>
            </a:xfrm>
            <a:prstGeom prst="rect">
              <a:avLst/>
            </a:prstGeom>
            <a:noFill/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32"/>
            <p:cNvSpPr/>
            <p:nvPr/>
          </p:nvSpPr>
          <p:spPr>
            <a:xfrm>
              <a:off x="4011480" y="585144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iMyS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33"/>
            <p:cNvSpPr/>
            <p:nvPr/>
          </p:nvSpPr>
          <p:spPr>
            <a:xfrm>
              <a:off x="5580000" y="585000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iMyResul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34"/>
            <p:cNvSpPr/>
            <p:nvPr/>
          </p:nvSpPr>
          <p:spPr>
            <a:xfrm>
              <a:off x="4390560" y="5235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urier New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35"/>
            <p:cNvSpPr/>
            <p:nvPr/>
          </p:nvSpPr>
          <p:spPr>
            <a:xfrm>
              <a:off x="5773680" y="5168880"/>
              <a:ext cx="784440" cy="669960"/>
            </a:xfrm>
            <a:prstGeom prst="rect">
              <a:avLst/>
            </a:prstGeom>
            <a:noFill/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36"/>
            <p:cNvSpPr/>
            <p:nvPr/>
          </p:nvSpPr>
          <p:spPr>
            <a:xfrm>
              <a:off x="6036840" y="52354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Line 37"/>
          <p:cNvSpPr/>
          <p:nvPr/>
        </p:nvSpPr>
        <p:spPr>
          <a:xfrm>
            <a:off x="1757520" y="12193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8"/>
          <p:cNvSpPr/>
          <p:nvPr/>
        </p:nvSpPr>
        <p:spPr>
          <a:xfrm>
            <a:off x="1757520" y="3657600"/>
            <a:ext cx="2133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39"/>
          <p:cNvSpPr/>
          <p:nvPr/>
        </p:nvSpPr>
        <p:spPr>
          <a:xfrm>
            <a:off x="1757520" y="5334120"/>
            <a:ext cx="2133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40"/>
          <p:cNvGrpSpPr/>
          <p:nvPr/>
        </p:nvGrpSpPr>
        <p:grpSpPr>
          <a:xfrm>
            <a:off x="990720" y="739800"/>
            <a:ext cx="1757160" cy="1547640"/>
            <a:chOff x="990720" y="739800"/>
            <a:chExt cx="1757160" cy="1547640"/>
          </a:xfrm>
        </p:grpSpPr>
        <p:grpSp>
          <p:nvGrpSpPr>
            <p:cNvPr id="304" name="Group 41"/>
            <p:cNvGrpSpPr/>
            <p:nvPr/>
          </p:nvGrpSpPr>
          <p:grpSpPr>
            <a:xfrm>
              <a:off x="990720" y="739800"/>
              <a:ext cx="1757160" cy="1547640"/>
              <a:chOff x="990720" y="739800"/>
              <a:chExt cx="1757160" cy="1547640"/>
            </a:xfrm>
          </p:grpSpPr>
          <p:sp>
            <p:nvSpPr>
              <p:cNvPr id="305" name="AutoShape 42"/>
              <p:cNvSpPr/>
              <p:nvPr/>
            </p:nvSpPr>
            <p:spPr>
              <a:xfrm>
                <a:off x="990720" y="739800"/>
                <a:ext cx="1757160" cy="1071360"/>
              </a:xfrm>
              <a:prstGeom prst="foldedCorner">
                <a:avLst>
                  <a:gd name="adj" fmla="val 12500"/>
                </a:avLst>
              </a:prstGeom>
              <a:solidFill>
                <a:srgbClr val="ff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Text Box 43"/>
              <p:cNvSpPr/>
              <p:nvPr/>
            </p:nvSpPr>
            <p:spPr>
              <a:xfrm>
                <a:off x="1605600" y="176688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urier New"/>
                  </a:rPr>
                  <a:t>d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" name="Rectangle 44"/>
            <p:cNvSpPr/>
            <p:nvPr/>
          </p:nvSpPr>
          <p:spPr>
            <a:xfrm>
              <a:off x="1133640" y="816120"/>
              <a:ext cx="146088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memo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dd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45"/>
          <p:cNvGrpSpPr/>
          <p:nvPr/>
        </p:nvGrpSpPr>
        <p:grpSpPr>
          <a:xfrm>
            <a:off x="990720" y="3102120"/>
            <a:ext cx="1757160" cy="1547640"/>
            <a:chOff x="990720" y="3102120"/>
            <a:chExt cx="1757160" cy="1547640"/>
          </a:xfrm>
        </p:grpSpPr>
        <p:grpSp>
          <p:nvGrpSpPr>
            <p:cNvPr id="309" name="Group 46"/>
            <p:cNvGrpSpPr/>
            <p:nvPr/>
          </p:nvGrpSpPr>
          <p:grpSpPr>
            <a:xfrm>
              <a:off x="990720" y="3102120"/>
              <a:ext cx="1757160" cy="1547640"/>
              <a:chOff x="990720" y="3102120"/>
              <a:chExt cx="1757160" cy="1547640"/>
            </a:xfrm>
          </p:grpSpPr>
          <p:sp>
            <p:nvSpPr>
              <p:cNvPr id="310" name="AutoShape 47"/>
              <p:cNvSpPr/>
              <p:nvPr/>
            </p:nvSpPr>
            <p:spPr>
              <a:xfrm>
                <a:off x="990720" y="3102120"/>
                <a:ext cx="1757160" cy="1071360"/>
              </a:xfrm>
              <a:prstGeom prst="foldedCorner">
                <a:avLst>
                  <a:gd name="adj" fmla="val 12500"/>
                </a:avLst>
              </a:prstGeom>
              <a:solidFill>
                <a:srgbClr val="ff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Text Box 48"/>
              <p:cNvSpPr/>
              <p:nvPr/>
            </p:nvSpPr>
            <p:spPr>
              <a:xfrm>
                <a:off x="1605600" y="412920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urier New"/>
                  </a:rPr>
                  <a:t>d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Rectangle 49"/>
            <p:cNvSpPr/>
            <p:nvPr/>
          </p:nvSpPr>
          <p:spPr>
            <a:xfrm>
              <a:off x="1148040" y="3200400"/>
              <a:ext cx="146088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memo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dd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50"/>
          <p:cNvGrpSpPr/>
          <p:nvPr/>
        </p:nvGrpSpPr>
        <p:grpSpPr>
          <a:xfrm>
            <a:off x="1066680" y="4800600"/>
            <a:ext cx="1757520" cy="1547640"/>
            <a:chOff x="1066680" y="4800600"/>
            <a:chExt cx="1757520" cy="1547640"/>
          </a:xfrm>
        </p:grpSpPr>
        <p:grpSp>
          <p:nvGrpSpPr>
            <p:cNvPr id="314" name="Group 51"/>
            <p:cNvGrpSpPr/>
            <p:nvPr/>
          </p:nvGrpSpPr>
          <p:grpSpPr>
            <a:xfrm>
              <a:off x="1066680" y="4800600"/>
              <a:ext cx="1757520" cy="1547640"/>
              <a:chOff x="1066680" y="4800600"/>
              <a:chExt cx="1757520" cy="1547640"/>
            </a:xfrm>
          </p:grpSpPr>
          <p:sp>
            <p:nvSpPr>
              <p:cNvPr id="315" name="AutoShape 52"/>
              <p:cNvSpPr/>
              <p:nvPr/>
            </p:nvSpPr>
            <p:spPr>
              <a:xfrm>
                <a:off x="1066680" y="4800600"/>
                <a:ext cx="1757520" cy="1071360"/>
              </a:xfrm>
              <a:prstGeom prst="foldedCorner">
                <a:avLst>
                  <a:gd name="adj" fmla="val 12500"/>
                </a:avLst>
              </a:prstGeom>
              <a:solidFill>
                <a:srgbClr val="ff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Text Box 53"/>
              <p:cNvSpPr/>
              <p:nvPr/>
            </p:nvSpPr>
            <p:spPr>
              <a:xfrm>
                <a:off x="1682280" y="582768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urier New"/>
                  </a:rPr>
                  <a:t>d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Rectangle 54"/>
            <p:cNvSpPr/>
            <p:nvPr/>
          </p:nvSpPr>
          <p:spPr>
            <a:xfrm>
              <a:off x="1219680" y="4898880"/>
              <a:ext cx="146088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memo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dd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55"/>
          <p:cNvSpPr/>
          <p:nvPr/>
        </p:nvSpPr>
        <p:spPr>
          <a:xfrm>
            <a:off x="239040" y="2133720"/>
            <a:ext cx="26586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Tester class. S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 of Die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6"/>
          <p:cNvSpPr/>
          <p:nvPr/>
        </p:nvSpPr>
        <p:spPr>
          <a:xfrm>
            <a:off x="7086600" y="2209680"/>
            <a:ext cx="19760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cla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f Die class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8FCF-A19A-4157-9A2A-1BBC89E77F4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bjec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Die object created has its own instance of the variables declared in the class bluepri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vate int iMySides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vate int iMyResu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 the ter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ance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tance vars are part of the hidden implementation and may b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ta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ess they are public, which is almost always a bad idea if you follow the tenets of information hiding and encaps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D1F5-32E7-4E4A-AE1E-B756B90EF2D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mplex Objec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28600" y="4572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one of the instance variables is itself an obj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o the Die clas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vate String my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2824200" y="2660760"/>
            <a:ext cx="4262400" cy="167616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5"/>
          <p:cNvSpPr/>
          <p:nvPr/>
        </p:nvSpPr>
        <p:spPr>
          <a:xfrm flipV="1">
            <a:off x="2827440" y="3047760"/>
            <a:ext cx="425916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3691080" y="26668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Die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2967120" y="3263760"/>
            <a:ext cx="803160" cy="66996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2820960" y="3946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yS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9"/>
          <p:cNvSpPr/>
          <p:nvPr/>
        </p:nvSpPr>
        <p:spPr>
          <a:xfrm>
            <a:off x="4160880" y="39448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y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0"/>
          <p:cNvSpPr/>
          <p:nvPr/>
        </p:nvSpPr>
        <p:spPr>
          <a:xfrm>
            <a:off x="3207960" y="3330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1"/>
          <p:cNvSpPr/>
          <p:nvPr/>
        </p:nvSpPr>
        <p:spPr>
          <a:xfrm>
            <a:off x="4284720" y="3263760"/>
            <a:ext cx="801720" cy="66996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2"/>
          <p:cNvSpPr/>
          <p:nvPr/>
        </p:nvSpPr>
        <p:spPr>
          <a:xfrm>
            <a:off x="4552560" y="3330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3"/>
          <p:cNvSpPr/>
          <p:nvPr/>
        </p:nvSpPr>
        <p:spPr>
          <a:xfrm>
            <a:off x="919080" y="3276720"/>
            <a:ext cx="1900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14"/>
          <p:cNvGrpSpPr/>
          <p:nvPr/>
        </p:nvGrpSpPr>
        <p:grpSpPr>
          <a:xfrm>
            <a:off x="152280" y="2720880"/>
            <a:ext cx="1757520" cy="1547640"/>
            <a:chOff x="152280" y="2720880"/>
            <a:chExt cx="1757520" cy="1547640"/>
          </a:xfrm>
        </p:grpSpPr>
        <p:grpSp>
          <p:nvGrpSpPr>
            <p:cNvPr id="341" name="Group 15"/>
            <p:cNvGrpSpPr/>
            <p:nvPr/>
          </p:nvGrpSpPr>
          <p:grpSpPr>
            <a:xfrm>
              <a:off x="152280" y="2720880"/>
              <a:ext cx="1757520" cy="1547640"/>
              <a:chOff x="152280" y="2720880"/>
              <a:chExt cx="1757520" cy="1547640"/>
            </a:xfrm>
          </p:grpSpPr>
          <p:sp>
            <p:nvSpPr>
              <p:cNvPr id="342" name="AutoShape 16"/>
              <p:cNvSpPr/>
              <p:nvPr/>
            </p:nvSpPr>
            <p:spPr>
              <a:xfrm>
                <a:off x="152280" y="2720880"/>
                <a:ext cx="1757520" cy="1071360"/>
              </a:xfrm>
              <a:prstGeom prst="foldedCorner">
                <a:avLst>
                  <a:gd name="adj" fmla="val 12500"/>
                </a:avLst>
              </a:prstGeom>
              <a:solidFill>
                <a:srgbClr val="ff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 Box 17"/>
              <p:cNvSpPr/>
              <p:nvPr/>
            </p:nvSpPr>
            <p:spPr>
              <a:xfrm>
                <a:off x="767880" y="374796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urier New"/>
                  </a:rPr>
                  <a:t>d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" name="Rectangle 18"/>
            <p:cNvSpPr/>
            <p:nvPr/>
          </p:nvSpPr>
          <p:spPr>
            <a:xfrm>
              <a:off x="295920" y="2797200"/>
              <a:ext cx="146088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memo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dd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Line 19"/>
          <p:cNvSpPr/>
          <p:nvPr/>
        </p:nvSpPr>
        <p:spPr>
          <a:xfrm>
            <a:off x="2362320" y="2666880"/>
            <a:ext cx="0" cy="1676520"/>
          </a:xfrm>
          <a:prstGeom prst="line">
            <a:avLst/>
          </a:prstGeom>
          <a:ln w="254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20"/>
          <p:cNvSpPr/>
          <p:nvPr/>
        </p:nvSpPr>
        <p:spPr>
          <a:xfrm>
            <a:off x="5486400" y="3192480"/>
            <a:ext cx="1523880" cy="738000"/>
          </a:xfrm>
          <a:prstGeom prst="foldedCorner">
            <a:avLst>
              <a:gd name="adj" fmla="val 12500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1"/>
          <p:cNvSpPr/>
          <p:nvPr/>
        </p:nvSpPr>
        <p:spPr>
          <a:xfrm>
            <a:off x="5640480" y="3946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2"/>
          <p:cNvSpPr/>
          <p:nvPr/>
        </p:nvSpPr>
        <p:spPr>
          <a:xfrm>
            <a:off x="5612760" y="331164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3"/>
          <p:cNvSpPr/>
          <p:nvPr/>
        </p:nvSpPr>
        <p:spPr>
          <a:xfrm>
            <a:off x="6858000" y="3581280"/>
            <a:ext cx="106668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4"/>
          <p:cNvSpPr/>
          <p:nvPr/>
        </p:nvSpPr>
        <p:spPr>
          <a:xfrm flipH="1">
            <a:off x="7162560" y="3429000"/>
            <a:ext cx="1066680" cy="1219320"/>
          </a:xfrm>
          <a:prstGeom prst="line">
            <a:avLst/>
          </a:prstGeom>
          <a:ln w="2030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5"/>
          <p:cNvSpPr/>
          <p:nvPr/>
        </p:nvSpPr>
        <p:spPr>
          <a:xfrm>
            <a:off x="6095880" y="4876920"/>
            <a:ext cx="2971800" cy="12952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6"/>
          <p:cNvSpPr/>
          <p:nvPr/>
        </p:nvSpPr>
        <p:spPr>
          <a:xfrm flipV="1">
            <a:off x="6095880" y="5333760"/>
            <a:ext cx="297180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7"/>
          <p:cNvSpPr/>
          <p:nvPr/>
        </p:nvSpPr>
        <p:spPr>
          <a:xfrm>
            <a:off x="6095520" y="48769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String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8"/>
          <p:cNvSpPr/>
          <p:nvPr/>
        </p:nvSpPr>
        <p:spPr>
          <a:xfrm>
            <a:off x="6171480" y="5391000"/>
            <a:ext cx="27561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s not sh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9"/>
          <p:cNvSpPr/>
          <p:nvPr/>
        </p:nvSpPr>
        <p:spPr>
          <a:xfrm>
            <a:off x="299520" y="4603680"/>
            <a:ext cx="5333400" cy="14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1 can hold the memory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 Die object.  The instance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Name inside a Die object can 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mory address of a String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bject Oriented Programm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ther words break the problem up based on the things / data types that are part of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the only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many different kinds of strategies 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radigm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oftware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, procedural, event driven, data flow, formal methods, agile or extreme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314 we will do a lot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bject ba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388B-FEC7-4D9A-8DD3-AA352C3AF9B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78AE-FAB4-470D-9286-3B0A1C8F7AB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Implicit Paramete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1536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his code from the Di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oll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yResult =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ourRandomNumGen.nextInt(iMySides) + 1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n in isolation this code is rather confu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is iMyResult thing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's not a parameter or local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es it exi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t belongs to the Die object that called this meth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are numerous Die objects in exis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ne is used depends on which object called the 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1B08-824E-4545-A33A-E3E030B8065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621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</a:t>
            </a:r>
            <a:r>
              <a:rPr b="0" i="1" lang="en-US" sz="4400" spc="-1" strike="noStrike">
                <a:solidFill>
                  <a:srgbClr val="ff0000"/>
                </a:solidFill>
                <a:latin typeface="Courier New"/>
              </a:rPr>
              <a:t>this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Keywo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method is called it may be necessary for the calling object to be able to refer to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likely so it can pass itself somewhere as a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n object calls a method an implicit reference is assigned to the calling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ame of this implicit reference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reference to the current calling object and may be used as an object variable (may not declare 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Date Placeholder 2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ooter Placeholder 3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981A-1B21-4401-8286-0B002C7E3BD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Courier New"/>
              </a:rPr>
              <a:t>this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Visuall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746280" y="110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442800" y="838080"/>
            <a:ext cx="7038720" cy="51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in some class other than D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e d3 = new Di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3.rol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in the Die clas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oll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   iMyResult =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ourRandomNumGen.nextInt(iMySides) +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*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.iMyResul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5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6"/>
          <p:cNvGrpSpPr/>
          <p:nvPr/>
        </p:nvGrpSpPr>
        <p:grpSpPr>
          <a:xfrm>
            <a:off x="5257800" y="4016520"/>
            <a:ext cx="3317400" cy="1684440"/>
            <a:chOff x="5257800" y="4016520"/>
            <a:chExt cx="3317400" cy="1684440"/>
          </a:xfrm>
        </p:grpSpPr>
        <p:grpSp>
          <p:nvGrpSpPr>
            <p:cNvPr id="374" name="Group 7"/>
            <p:cNvGrpSpPr/>
            <p:nvPr/>
          </p:nvGrpSpPr>
          <p:grpSpPr>
            <a:xfrm>
              <a:off x="5257800" y="4016520"/>
              <a:ext cx="3200400" cy="1676160"/>
              <a:chOff x="5257800" y="4016520"/>
              <a:chExt cx="3200400" cy="1676160"/>
            </a:xfrm>
          </p:grpSpPr>
          <p:sp>
            <p:nvSpPr>
              <p:cNvPr id="375" name="Rectangle 8"/>
              <p:cNvSpPr/>
              <p:nvPr/>
            </p:nvSpPr>
            <p:spPr>
              <a:xfrm>
                <a:off x="5257800" y="4016520"/>
                <a:ext cx="3200400" cy="1676160"/>
              </a:xfrm>
              <a:prstGeom prst="rect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9"/>
              <p:cNvSpPr/>
              <p:nvPr/>
            </p:nvSpPr>
            <p:spPr>
              <a:xfrm>
                <a:off x="5262480" y="4417920"/>
                <a:ext cx="31906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Text Box 10"/>
              <p:cNvSpPr/>
              <p:nvPr/>
            </p:nvSpPr>
            <p:spPr>
              <a:xfrm>
                <a:off x="5594040" y="4022640"/>
                <a:ext cx="237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a Die objec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Rectangle 11"/>
            <p:cNvSpPr/>
            <p:nvPr/>
          </p:nvSpPr>
          <p:spPr>
            <a:xfrm>
              <a:off x="5597280" y="4619520"/>
              <a:ext cx="784440" cy="669600"/>
            </a:xfrm>
            <a:prstGeom prst="rect">
              <a:avLst/>
            </a:prstGeom>
            <a:noFill/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2"/>
            <p:cNvSpPr/>
            <p:nvPr/>
          </p:nvSpPr>
          <p:spPr>
            <a:xfrm>
              <a:off x="5454360" y="530208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iMyS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3"/>
            <p:cNvSpPr/>
            <p:nvPr/>
          </p:nvSpPr>
          <p:spPr>
            <a:xfrm>
              <a:off x="7022880" y="530064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iMyResul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4"/>
            <p:cNvSpPr/>
            <p:nvPr/>
          </p:nvSpPr>
          <p:spPr>
            <a:xfrm>
              <a:off x="5833440" y="46861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5"/>
            <p:cNvSpPr/>
            <p:nvPr/>
          </p:nvSpPr>
          <p:spPr>
            <a:xfrm>
              <a:off x="7216560" y="4619520"/>
              <a:ext cx="784440" cy="669600"/>
            </a:xfrm>
            <a:prstGeom prst="rect">
              <a:avLst/>
            </a:prstGeom>
            <a:noFill/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6"/>
            <p:cNvSpPr/>
            <p:nvPr/>
          </p:nvSpPr>
          <p:spPr>
            <a:xfrm>
              <a:off x="7479720" y="46861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Line 17"/>
          <p:cNvSpPr/>
          <p:nvPr/>
        </p:nvSpPr>
        <p:spPr>
          <a:xfrm>
            <a:off x="7924680" y="838080"/>
            <a:ext cx="0" cy="3124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Group 18"/>
          <p:cNvGrpSpPr/>
          <p:nvPr/>
        </p:nvGrpSpPr>
        <p:grpSpPr>
          <a:xfrm>
            <a:off x="6319800" y="304920"/>
            <a:ext cx="1757520" cy="1547640"/>
            <a:chOff x="6319800" y="304920"/>
            <a:chExt cx="1757520" cy="1547640"/>
          </a:xfrm>
        </p:grpSpPr>
        <p:grpSp>
          <p:nvGrpSpPr>
            <p:cNvPr id="386" name="Group 19"/>
            <p:cNvGrpSpPr/>
            <p:nvPr/>
          </p:nvGrpSpPr>
          <p:grpSpPr>
            <a:xfrm>
              <a:off x="6319800" y="304920"/>
              <a:ext cx="1757520" cy="1547640"/>
              <a:chOff x="6319800" y="304920"/>
              <a:chExt cx="1757520" cy="1547640"/>
            </a:xfrm>
          </p:grpSpPr>
          <p:sp>
            <p:nvSpPr>
              <p:cNvPr id="387" name="AutoShape 20"/>
              <p:cNvSpPr/>
              <p:nvPr/>
            </p:nvSpPr>
            <p:spPr>
              <a:xfrm>
                <a:off x="6319800" y="304920"/>
                <a:ext cx="1757520" cy="1071360"/>
              </a:xfrm>
              <a:prstGeom prst="foldedCorner">
                <a:avLst>
                  <a:gd name="adj" fmla="val 12500"/>
                </a:avLst>
              </a:prstGeom>
              <a:solidFill>
                <a:srgbClr val="ff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Text Box 21"/>
              <p:cNvSpPr/>
              <p:nvPr/>
            </p:nvSpPr>
            <p:spPr>
              <a:xfrm>
                <a:off x="6935400" y="133200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urier New"/>
                  </a:rPr>
                  <a:t>d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9" name="Rectangle 22"/>
            <p:cNvSpPr/>
            <p:nvPr/>
          </p:nvSpPr>
          <p:spPr>
            <a:xfrm>
              <a:off x="6472800" y="403200"/>
              <a:ext cx="146088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memo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dd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AutoShape 23"/>
          <p:cNvSpPr/>
          <p:nvPr/>
        </p:nvSpPr>
        <p:spPr>
          <a:xfrm>
            <a:off x="2738520" y="4245120"/>
            <a:ext cx="1757160" cy="1071360"/>
          </a:xfrm>
          <a:prstGeom prst="foldedCorner">
            <a:avLst>
              <a:gd name="adj" fmla="val 12500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4"/>
          <p:cNvSpPr/>
          <p:nvPr/>
        </p:nvSpPr>
        <p:spPr>
          <a:xfrm>
            <a:off x="3119760" y="5272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5"/>
          <p:cNvSpPr/>
          <p:nvPr/>
        </p:nvSpPr>
        <p:spPr>
          <a:xfrm>
            <a:off x="2891160" y="4343400"/>
            <a:ext cx="1460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26"/>
          <p:cNvSpPr/>
          <p:nvPr/>
        </p:nvSpPr>
        <p:spPr>
          <a:xfrm>
            <a:off x="4267080" y="46260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46A1-BDA8-40E2-ACCD-0F9E409A59E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n equals metho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with objects of the same type in a class can be confu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n equals method for the Die class. assume every Die has a myName instance variable as well as iMyNumber and iMy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B5DB-00CC-498C-A86E-09A05A60B83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Possible Equals Metho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3" name="Text Box 3"/>
          <p:cNvSpPr/>
          <p:nvPr/>
        </p:nvSpPr>
        <p:spPr>
          <a:xfrm>
            <a:off x="706320" y="609480"/>
            <a:ext cx="8044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boolean equals(Object otherObj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e other = (Die)otherObjec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iMySides == other.iMy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amp;&amp; iMyResult== other.iMy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amp;&amp; myName.equals( other.myName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2743200"/>
            <a:ext cx="81532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d Type of Parameter is Object not 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ride (replace) the equals method instead of overload (present an alternate vers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create generic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see the equals method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heri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the Object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o another object's private instance variab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Date Placeholder 2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3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FA76-48DD-4A4C-BF40-0FD6C1B18D2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nother equals Metho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72000" y="1143000"/>
            <a:ext cx="895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boolean equals(Object otherObj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e other = (Die)otherObjec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this.iMySides == other.iMy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amp;&amp; this.iMyNumber == other.iMy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amp;&amp; this.myName.equals( other.myName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4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47160" y="4003560"/>
            <a:ext cx="84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the this keyword / reference to access the implicit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s is unnecessa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method within the same class is called within a method,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 calling object is still the calling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2608-BDE9-4C18-99B0-1C2AB6CF628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"Perfect" Equals Metho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Cay Horstmann'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re 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306360" y="1447920"/>
            <a:ext cx="8867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equals(Object otherObj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check if objects iden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 this == otherObj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must return false if explicit parameter 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otherObject ==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if objects not of same type they cannot be eq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getClass() != otherObject.getClass()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we know otherObject is a non null D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e other = (Die)otherObjec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iMySides == other.iMyS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&amp; iMyNumber == other.iMy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&amp; myName.equals( other.myName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246E-031A-4F7D-BA0F-F1D22487B8F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instanceof Operato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stance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Java key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of a boolean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boolean equals(Object otherObj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 otherObj instanceof Di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now go and cas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 rest of equals metho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not use instanceof in equals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stance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its uses but not in equals because of the contract of the equals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77AA-9D40-4C2F-A11E-ADBADC4698C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lass Variables and Class Method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every object of a class does not need its own copy of a variable or con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eywor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used to specify class variables, constants, and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static Random ourRandNumG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= new Random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public static final int DEFAULT_SIDES = 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prevalent use of static is for class const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value can't be changed why should every object have a copy of this non changing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33C4-9551-44EB-8491-35B9E84E966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ass Variables and Consta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2" name="Rectangle 3"/>
          <p:cNvSpPr/>
          <p:nvPr/>
        </p:nvSpPr>
        <p:spPr>
          <a:xfrm>
            <a:off x="690480" y="1219320"/>
            <a:ext cx="5253120" cy="167616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4"/>
          <p:cNvSpPr/>
          <p:nvPr/>
        </p:nvSpPr>
        <p:spPr>
          <a:xfrm>
            <a:off x="690480" y="1219320"/>
            <a:ext cx="5253120" cy="167616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5"/>
          <p:cNvSpPr/>
          <p:nvPr/>
        </p:nvSpPr>
        <p:spPr>
          <a:xfrm flipV="1">
            <a:off x="693720" y="1599840"/>
            <a:ext cx="5249880" cy="205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2166480" y="12254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Die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1330200" y="1822320"/>
            <a:ext cx="803520" cy="66996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8"/>
          <p:cNvSpPr/>
          <p:nvPr/>
        </p:nvSpPr>
        <p:spPr>
          <a:xfrm>
            <a:off x="687600" y="250524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FAULT_S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9"/>
          <p:cNvSpPr/>
          <p:nvPr/>
        </p:nvSpPr>
        <p:spPr>
          <a:xfrm>
            <a:off x="1571400" y="1889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10"/>
          <p:cNvSpPr/>
          <p:nvPr/>
        </p:nvSpPr>
        <p:spPr>
          <a:xfrm>
            <a:off x="3886200" y="1751040"/>
            <a:ext cx="1523880" cy="738000"/>
          </a:xfrm>
          <a:prstGeom prst="foldedCorner">
            <a:avLst>
              <a:gd name="adj" fmla="val 12500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1"/>
          <p:cNvSpPr/>
          <p:nvPr/>
        </p:nvSpPr>
        <p:spPr>
          <a:xfrm>
            <a:off x="3507120" y="250524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rRandNum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2"/>
          <p:cNvSpPr/>
          <p:nvPr/>
        </p:nvSpPr>
        <p:spPr>
          <a:xfrm>
            <a:off x="4041000" y="18288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3"/>
          <p:cNvSpPr/>
          <p:nvPr/>
        </p:nvSpPr>
        <p:spPr>
          <a:xfrm>
            <a:off x="5410080" y="2133720"/>
            <a:ext cx="20574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4"/>
          <p:cNvSpPr/>
          <p:nvPr/>
        </p:nvSpPr>
        <p:spPr>
          <a:xfrm flipH="1">
            <a:off x="6095880" y="1828800"/>
            <a:ext cx="1067040" cy="1219320"/>
          </a:xfrm>
          <a:prstGeom prst="line">
            <a:avLst/>
          </a:prstGeom>
          <a:ln w="2030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5"/>
          <p:cNvSpPr/>
          <p:nvPr/>
        </p:nvSpPr>
        <p:spPr>
          <a:xfrm>
            <a:off x="5638680" y="3200400"/>
            <a:ext cx="2971800" cy="12952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6"/>
          <p:cNvSpPr/>
          <p:nvPr/>
        </p:nvSpPr>
        <p:spPr>
          <a:xfrm flipV="1">
            <a:off x="5638680" y="3657600"/>
            <a:ext cx="2971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7"/>
          <p:cNvSpPr/>
          <p:nvPr/>
        </p:nvSpPr>
        <p:spPr>
          <a:xfrm>
            <a:off x="5638320" y="32004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Random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8"/>
          <p:cNvSpPr/>
          <p:nvPr/>
        </p:nvSpPr>
        <p:spPr>
          <a:xfrm>
            <a:off x="5714280" y="3714840"/>
            <a:ext cx="27561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s not sh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9"/>
          <p:cNvSpPr/>
          <p:nvPr/>
        </p:nvSpPr>
        <p:spPr>
          <a:xfrm>
            <a:off x="587160" y="3352680"/>
            <a:ext cx="4812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bjects of type Die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to the class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const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ublic class variable or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referred to via the class n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218A-FA67-4323-A8E9-BDCB6E589F5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 - Monopol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533520" y="108576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3505320" y="12193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3"/>
          <a:stretch/>
        </p:blipFill>
        <p:spPr>
          <a:xfrm>
            <a:off x="5638680" y="1295280"/>
            <a:ext cx="1905120" cy="1424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4"/>
          <a:stretch/>
        </p:blipFill>
        <p:spPr>
          <a:xfrm>
            <a:off x="838080" y="3657600"/>
            <a:ext cx="17733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"/>
          <p:cNvPicPr/>
          <p:nvPr/>
        </p:nvPicPr>
        <p:blipFill>
          <a:blip r:embed="rId5"/>
          <a:stretch/>
        </p:blipFill>
        <p:spPr>
          <a:xfrm>
            <a:off x="3429000" y="3581280"/>
            <a:ext cx="1951200" cy="222408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6" descr=""/>
          <p:cNvPicPr/>
          <p:nvPr/>
        </p:nvPicPr>
        <p:blipFill>
          <a:blip r:embed="rId6"/>
          <a:stretch/>
        </p:blipFill>
        <p:spPr>
          <a:xfrm>
            <a:off x="-223920" y="1085760"/>
            <a:ext cx="8829720" cy="51148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2"/>
          <p:cNvSpPr/>
          <p:nvPr/>
        </p:nvSpPr>
        <p:spPr>
          <a:xfrm>
            <a:off x="6293880" y="674640"/>
            <a:ext cx="3089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had to star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scratch wha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es would w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cre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CA56-3039-4268-A8E0-66DB9DBFD6A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yntax for Accessing Class Variable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365760" y="762120"/>
            <a:ext cx="8364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UseDieSt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  public static void main(String[] ar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  System.out.println( "Die.DEFAULT_SIDES 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Die.DEFAULT_SIDES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Any attempt to access Die.ourRandNumG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would generate a syntax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e d1 = new Die(1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 "Die.DEFAULT_SIDES 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Die.DEFAULT_SIDES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 "d1.DEFAULT_SIDES 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d1.DEFAULT_SIDES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regardless of the number of Die object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existence, there is only one copy of DEFAULT_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in the Di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// end of main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// end of UseDieStatic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2B48-C6D9-4232-9D98-399999C17FD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atic Metho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a somewhat different meaning when used in a method decl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c methods may not manipulate any instance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non static methods, some object invokes th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3.roll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bject that makes the method call is an implicit parameter to th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009C-4AC6-4A06-A026-F42E1072EEE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atic Methods Continue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re is no implicit object parameter sent to the static method it does not have access to a copy of any objects instance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ess of course that object is sent as an explicit par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c methods are normally utility methods or used to manipulate static variabl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class variables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th and System classes are nothing but static metho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2610-8107-4CF2-936E-ACC4CC0FCA9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atic and thi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es this work (added to Die cla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is doesn'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4"/>
          <p:cNvSpPr/>
          <p:nvPr/>
        </p:nvSpPr>
        <p:spPr>
          <a:xfrm>
            <a:off x="380880" y="4114800"/>
            <a:ext cx="8763120" cy="19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Static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 System.out.println( this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5"/>
          <p:cNvSpPr/>
          <p:nvPr/>
        </p:nvSpPr>
        <p:spPr>
          <a:xfrm>
            <a:off x="190440" y="1295280"/>
            <a:ext cx="8763120" cy="19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outputSelf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 System.out.println( this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7397-EFBA-405D-94E7-4AF5E77D7E2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ncapsul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features of object oriented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e the data of an object (vari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operations and data together into a new data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easier to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mething than understan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xactly how it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wave, car, computer, software, mp3 p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IntList Clas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28600" y="8380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develop a class that models a list of 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ly a pale imitation of the Java ArrayList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ment on an array of 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ze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eas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eas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st - our fir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ariable that stores other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maintain elements in a definite order and duplicates are allow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EA4D-B858-4BAB-BDD2-1F3C3BAEEA8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4E4B-4170-4598-A24B-912148770EA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L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will have an array of ints instance variable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[] contai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What should the length of this internal array be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less than or equal to the size of th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greater than or equal to the size of th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equal to the size of th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some fixed amount that never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apsulation - Implement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67A8-0ED6-4E8F-8890-F723D7D0024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adding a new element to a list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should the new element be added by defaul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he begi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Th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he mid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A random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Don’t bother to actually a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1-01-26T18:40:37Z</dcterms:modified>
  <cp:revision>110</cp:revision>
  <dc:subject/>
  <dc:title>PowerPoint Presentation</dc:title>
</cp:coreProperties>
</file>