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EF20AD3-5441-4342-BA7D-491E32C4E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0BD8002-151E-48D9-B3C5-403C14A18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6D7-62FD-4351-A5C7-BA8276C5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C72-8E06-4F94-9F31-C991BC2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D7B-352D-4B68-846D-3B1232A9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CC6-E4FD-4A16-B2B0-D7B987CF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23B-0AEC-4F8D-92E0-78E0163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35E-E727-4AB6-A60B-5948920D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BE3-6982-4D49-A90E-C57E466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E25-F31D-4B39-9E75-A400480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822-2A02-48A6-8246-EE3EB96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90E-413D-442E-B8B5-E3C73D2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5AB-0D63-44A8-AC1D-1691828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5C1-6F82-4DB6-9191-515C19D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5D9B-0A4A-47BC-AA2A-5177329258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ytimes.com/2005/08/26/world/americas/26iht-denver.html" TargetMode="External"/><Relationship Id="rId2" Type="http://schemas.openxmlformats.org/officeDocument/2006/relationships/hyperlink" Target="http://homepages.inf.ed.ac.uk/perdita/Book/ariane5rep.html" TargetMode="External"/><Relationship Id="rId3" Type="http://schemas.openxmlformats.org/officeDocument/2006/relationships/hyperlink" Target="http://www.wired.com/software/coolapps/news/2005/11/69355?currentPage=2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3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capsulation - Implementing Classes</a:t>
            </a: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, from Europe, we get things such as ... object-oriented analysis and design (a clever way of breaking up software programming instructions and data into small, reusable objects, based on certain abstraction principles and design hierarchies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Michael A. Cusumano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usines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7545240" y="4572000"/>
            <a:ext cx="1598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ADFE-1E0F-476A-B1A9-82E5A8CDDB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List Desig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, empty In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List -&gt;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is not code. It is a notation that shows what the results of operations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mpty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a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.add(1) -&gt; 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].add(5) -&gt; [1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 5].add(4) -&gt; [1, 5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a list have a definite order and a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based position or 1 based positi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, exceptions, postconditions, as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of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BEAA-3EA3-44D3-87DA-4BDE03B4C69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the performance of String concatenation” – Joshua Bl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, int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metho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All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, IntList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s and queens of the Int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573A-BBB0-47D4-A3BC-27A067550FF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er 3 - Timing Experimen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457200"/>
            <a:ext cx="9448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 elements to an initially empty IntList then call toString. Time both events. How does the time to add compare to the time to complete to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List list = new IntList(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; i++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i); // resize, cap * 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list.toString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lt;&l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l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~=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g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gt;&g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826-06C0-4895-B20B-81DD318E64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instance variables because every instance (object) of this class has its own copy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store the elements of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internal storage contai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what els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lear on the difference between the internal data of an IntList object and the IntList that is being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ake internal data priv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77B3-8192-4E27-B560-A436ED39E2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6520" y="3581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42, 12, 3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640" y="243828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view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352680" y="1905120"/>
            <a:ext cx="9144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144080" y="4952880"/>
            <a:ext cx="2023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ll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724280" y="45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2000" y="304920"/>
            <a:ext cx="4752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List aList = new IntLi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1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3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495680" y="1295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4572000" y="1905120"/>
            <a:ext cx="609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5562720" y="2438280"/>
            <a:ext cx="3429000" cy="198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556272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477480" y="2438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716800" y="2971800"/>
            <a:ext cx="15523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6629400" y="2971800"/>
            <a:ext cx="10666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7315200" y="3733920"/>
            <a:ext cx="11430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693576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0"/>
          <p:cNvGrpSpPr/>
          <p:nvPr/>
        </p:nvGrpSpPr>
        <p:grpSpPr>
          <a:xfrm>
            <a:off x="4495680" y="5105520"/>
            <a:ext cx="914400" cy="533160"/>
            <a:chOff x="4495680" y="5105520"/>
            <a:chExt cx="914400" cy="533160"/>
          </a:xfrm>
        </p:grpSpPr>
        <p:sp>
          <p:nvSpPr>
            <p:cNvPr id="138" name="Rectangle 24"/>
            <p:cNvSpPr/>
            <p:nvPr/>
          </p:nvSpPr>
          <p:spPr>
            <a:xfrm>
              <a:off x="44956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49528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410080" y="5105520"/>
            <a:ext cx="914400" cy="533160"/>
            <a:chOff x="5410080" y="5105520"/>
            <a:chExt cx="914400" cy="533160"/>
          </a:xfrm>
        </p:grpSpPr>
        <p:sp>
          <p:nvSpPr>
            <p:cNvPr id="141" name="Rectangle 32"/>
            <p:cNvSpPr/>
            <p:nvPr/>
          </p:nvSpPr>
          <p:spPr>
            <a:xfrm>
              <a:off x="54100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58672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4"/>
          <p:cNvGrpSpPr/>
          <p:nvPr/>
        </p:nvGrpSpPr>
        <p:grpSpPr>
          <a:xfrm>
            <a:off x="6324480" y="5105520"/>
            <a:ext cx="914400" cy="533160"/>
            <a:chOff x="6324480" y="5105520"/>
            <a:chExt cx="914400" cy="533160"/>
          </a:xfrm>
        </p:grpSpPr>
        <p:sp>
          <p:nvSpPr>
            <p:cNvPr id="144" name="Rectangle 35"/>
            <p:cNvSpPr/>
            <p:nvPr/>
          </p:nvSpPr>
          <p:spPr>
            <a:xfrm>
              <a:off x="63244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6"/>
            <p:cNvSpPr/>
            <p:nvPr/>
          </p:nvSpPr>
          <p:spPr>
            <a:xfrm>
              <a:off x="67816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7238880" y="5105520"/>
            <a:ext cx="914400" cy="533160"/>
            <a:chOff x="7238880" y="5105520"/>
            <a:chExt cx="914400" cy="533160"/>
          </a:xfrm>
        </p:grpSpPr>
        <p:sp>
          <p:nvSpPr>
            <p:cNvPr id="147" name="Rectangle 38"/>
            <p:cNvSpPr/>
            <p:nvPr/>
          </p:nvSpPr>
          <p:spPr>
            <a:xfrm>
              <a:off x="72388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76960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8153280" y="5105520"/>
            <a:ext cx="914400" cy="533160"/>
            <a:chOff x="8153280" y="5105520"/>
            <a:chExt cx="914400" cy="533160"/>
          </a:xfrm>
        </p:grpSpPr>
        <p:sp>
          <p:nvSpPr>
            <p:cNvPr id="150" name="Rectangle 41"/>
            <p:cNvSpPr/>
            <p:nvPr/>
          </p:nvSpPr>
          <p:spPr>
            <a:xfrm>
              <a:off x="81532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86104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3"/>
          <p:cNvSpPr/>
          <p:nvPr/>
        </p:nvSpPr>
        <p:spPr>
          <a:xfrm>
            <a:off x="4578840" y="518328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2 12  37  0   0   0  0   0   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5"/>
          <p:cNvSpPr/>
          <p:nvPr/>
        </p:nvSpPr>
        <p:spPr>
          <a:xfrm>
            <a:off x="4800600" y="236232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6"/>
          <p:cNvSpPr/>
          <p:nvPr/>
        </p:nvSpPr>
        <p:spPr>
          <a:xfrm flipH="1">
            <a:off x="4723920" y="4038480"/>
            <a:ext cx="29718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4502880" y="579132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1   2   3  4   5   6   7  8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3D5-4604-4064-9695-EB5A9198EC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itialization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List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apa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recting to another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(1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CD61-C140-44E5-BBA6-27FC26F139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ault add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not enough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.add(3) -&gt; [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].add(5) -&gt; [3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].add(3) -&gt; [3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, testing, tes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would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7D84-B89C-4580-B575-22F05E3F63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tring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 Java String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list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lement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s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2, 0, 5, 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the performanc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ate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235-E672-4A7A-AF7A-5E99F32A27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 l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 = new IntList(25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list.size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 No output due to runtime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large programs that work turns out to be very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DIA Automated baggage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Ariane 5 Flight 5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programming is one wa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aging the complex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rogramming and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big problems into smaller, more manageab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A51-7008-48C5-83AE-DC6ECC4D07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4BB-8E03-4B4D-89C6-3AF9082117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t and siz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element from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2].get(0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2].get(1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ments in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onfuse with the capacity of the internal storag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 is not the l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4, 5, 2].size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EBA-6EEA-47C0-9609-D1811178572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t someplace besides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].insert(1, 4) -&gt; [3, 4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4, 5].insert(0, 4) -&gt; [4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oad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 for internal loos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745360" y="22096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276720" y="1905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H="1" flipV="1">
            <a:off x="4647960" y="19051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97F-E981-4CAA-8F18-B3265DA211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 list = new IntLis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add(3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0, 4); // position, 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1, 1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add(5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2, 9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4, 1, 3, 9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4, 1, 5, 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4, 1, 9, 3, 5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1, 4, 9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00C9-CAC9-45CF-99CB-CEDAD928E1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an element from the list based on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4, 5].remove(0) -&gt; [4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6, 1, 2].remove(2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1, 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 methods, mutator methods, and mutator methods that return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FDFB-2418-4B93-BB32-06D0ED463E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6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List list = new IntLis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7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remove(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5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0, 12, 17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5, 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C42-5F4A-4B93-A3C4-9A10FA164A9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All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ll elements of one list to another starting at a specifie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, 3, 7].insertAll(2, [2, 3]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, 3, 2, 3, 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2, 3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ther objects of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private priv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 coupling vs.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7 - InsertAll First 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rder of the first version of InsertAll? Assume both lists have N elements and that the insert position is halfway through the calling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058-524B-472D-9EC3-270806102D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 Design and Implementation – Another Exampl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ample will not be covered in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896-CBAD-43CB-BD2E-9E25902DCC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lass u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a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interface? 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should a die be 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s or behaviors can be broken up into constructors, mutators, ac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j0197530"/>
          <p:cNvPicPr/>
          <p:nvPr/>
        </p:nvPicPr>
        <p:blipFill>
          <a:blip r:embed="rId1"/>
          <a:stretch/>
        </p:blipFill>
        <p:spPr>
          <a:xfrm>
            <a:off x="6172200" y="40176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9F0F-F392-4B72-A1F8-3FC5826799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(used in creation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, single int parameter to specify the number of sides, int and boolean to determine if should 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ors (change state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ors (do not change state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esult, getNumSides, to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_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C58-CAA3-4750-B1BF-DB0DC31187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Object-oriented programming is a method of programming based on a hierarchy of classes, and well-defined and cooperating objects.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 class is a structure that defines the data and the methods to work on that data. When you write programs in the Java language, all program data is wrapped in a class, whether it is a class you write or a class you use from the Java platform API librari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E3B-EA82-4C3B-AE48-55FD9F7232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sibility Modifi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s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visibility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tect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modifier means package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these modifiers on local variables (syntax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constructor, method, or field may be accessed outside of the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and methods are generally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part of the class is hidden and inaccessible by code outside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ields are generall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B2D-A013-42C6-91A9-76140F7A7B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s made up of constructor code, method code, and private data members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data members / insta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vate data members may be used in any of the constructors or methods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s hidden from users of a class and can be changed without changing the interface or affecting clients (other classes that use this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Previous version of Die class, DieVersion1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Die class completed can be used in anything requiring a Die or situation requiring random numbers between 1 an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ester class. 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D46C-D04E-4580-B27D-D15C7F4410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eTester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-772920" y="1523880"/>
            <a:ext cx="93247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NUM_ROLLS = 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TEN_SIDED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1 = new Di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2 = new Di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3 = new Die(TEN_SID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MAX_ROLL = d1.getNumSides(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getNumSides() + d3.getNumSide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i = 0; i &lt; NUM_ROLL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1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1: " + d1.getResult(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d2: " + d2.getResult() + " Total: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(d1.getResult() + d2.getResult()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AC4-46F6-4C3C-96B8-9BE36962C4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eTester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1143000"/>
            <a:ext cx="891540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oll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1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d1.getResult() + d2.getResult(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3.getResul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oll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total != MAX_RO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\n\nNumber of rolls to get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MAX_ROLL + " was " + numRoll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E60-02C7-4CEB-8194-43B6BBEBDC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ness Sidetr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eating the public interface of a class give careful thought and consideration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creating between yourself and users (other programmers) of you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ate what you assume to be true before a method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r of the method is responsible for making sure these ar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ate what you guarantee to be true after the method is done if the preconditions ar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r of the method is responsible for making sure these ar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2D7C-2678-4AFA-9942-DDE680F582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ondition and Postcondition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76200" y="1482840"/>
            <a:ext cx="8562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pre: numSides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: getResult() = 1, getNumSides() = s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ie(int numS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  assert (numSides &gt; 1) : “Violation of precondition: Die(int)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yNumSides = numS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yResul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 getResult() == 1 &amp;&amp; getNumSides() == numS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5C2-19DC-48D7-BE0E-8F4205AF5B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Behavior - Instanti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DieTester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1 = new Di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2 = new Di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3 = new Die(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ew operator is invoked control is transferred to the Die class and the specified constructor is executed, based on parameter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(memory) is set aside for the new object's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mory address of the new object is passed back and stored in the object variable (poi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eating the object, methods may be called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F79-6149-4546-9708-72DACC11AD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"/>
          <p:cNvSpPr/>
          <p:nvPr/>
        </p:nvSpPr>
        <p:spPr>
          <a:xfrm>
            <a:off x="3281400" y="838080"/>
            <a:ext cx="0" cy="5334120"/>
          </a:xfrm>
          <a:prstGeom prst="line">
            <a:avLst/>
          </a:prstGeom>
          <a:ln w="254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Dice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814920" y="838080"/>
            <a:ext cx="3359160" cy="1685160"/>
            <a:chOff x="3814920" y="838080"/>
            <a:chExt cx="3359160" cy="1685160"/>
          </a:xfrm>
        </p:grpSpPr>
        <p:grpSp>
          <p:nvGrpSpPr>
            <p:cNvPr id="268" name="Group 5"/>
            <p:cNvGrpSpPr/>
            <p:nvPr/>
          </p:nvGrpSpPr>
          <p:grpSpPr>
            <a:xfrm>
              <a:off x="3814920" y="838080"/>
              <a:ext cx="3276720" cy="1675800"/>
              <a:chOff x="3814920" y="838080"/>
              <a:chExt cx="3276720" cy="167580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3814920" y="838080"/>
                <a:ext cx="3276720" cy="167580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3819960" y="1240200"/>
                <a:ext cx="32659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8"/>
              <p:cNvSpPr/>
              <p:nvPr/>
            </p:nvSpPr>
            <p:spPr>
              <a:xfrm>
                <a:off x="4158720" y="8964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9"/>
            <p:cNvSpPr/>
            <p:nvPr/>
          </p:nvSpPr>
          <p:spPr>
            <a:xfrm>
              <a:off x="4163040" y="1441440"/>
              <a:ext cx="802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4016520" y="21243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5621760" y="21229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4403880" y="150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5821200" y="1441440"/>
              <a:ext cx="802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6089040" y="150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3814920" y="2743200"/>
            <a:ext cx="3317400" cy="1678320"/>
            <a:chOff x="3814920" y="2743200"/>
            <a:chExt cx="3317400" cy="1678320"/>
          </a:xfrm>
        </p:grpSpPr>
        <p:grpSp>
          <p:nvGrpSpPr>
            <p:cNvPr id="279" name="Group 16"/>
            <p:cNvGrpSpPr/>
            <p:nvPr/>
          </p:nvGrpSpPr>
          <p:grpSpPr>
            <a:xfrm>
              <a:off x="3814920" y="2743200"/>
              <a:ext cx="3200400" cy="1650960"/>
              <a:chOff x="3814920" y="2743200"/>
              <a:chExt cx="3200400" cy="165096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3814920" y="2793960"/>
                <a:ext cx="3200400" cy="160020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819600" y="317808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4151160" y="27432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20"/>
            <p:cNvSpPr/>
            <p:nvPr/>
          </p:nvSpPr>
          <p:spPr>
            <a:xfrm>
              <a:off x="4154400" y="3370320"/>
              <a:ext cx="784440" cy="63972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1"/>
            <p:cNvSpPr/>
            <p:nvPr/>
          </p:nvSpPr>
          <p:spPr>
            <a:xfrm>
              <a:off x="4011480" y="4022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>
              <a:off x="5580000" y="402264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3"/>
            <p:cNvSpPr/>
            <p:nvPr/>
          </p:nvSpPr>
          <p:spPr>
            <a:xfrm>
              <a:off x="4390560" y="3433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5773680" y="3370320"/>
              <a:ext cx="784440" cy="63972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"/>
            <p:cNvSpPr/>
            <p:nvPr/>
          </p:nvSpPr>
          <p:spPr>
            <a:xfrm>
              <a:off x="6036840" y="3433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6"/>
          <p:cNvGrpSpPr/>
          <p:nvPr/>
        </p:nvGrpSpPr>
        <p:grpSpPr>
          <a:xfrm>
            <a:off x="3814920" y="4565520"/>
            <a:ext cx="3317400" cy="1684800"/>
            <a:chOff x="3814920" y="4565520"/>
            <a:chExt cx="3317400" cy="1684800"/>
          </a:xfrm>
        </p:grpSpPr>
        <p:grpSp>
          <p:nvGrpSpPr>
            <p:cNvPr id="290" name="Group 27"/>
            <p:cNvGrpSpPr/>
            <p:nvPr/>
          </p:nvGrpSpPr>
          <p:grpSpPr>
            <a:xfrm>
              <a:off x="3814920" y="4565520"/>
              <a:ext cx="3200400" cy="1676520"/>
              <a:chOff x="3814920" y="4565520"/>
              <a:chExt cx="3200400" cy="1676520"/>
            </a:xfrm>
          </p:grpSpPr>
          <p:sp>
            <p:nvSpPr>
              <p:cNvPr id="291" name="Rectangle 28"/>
              <p:cNvSpPr/>
              <p:nvPr/>
            </p:nvSpPr>
            <p:spPr>
              <a:xfrm>
                <a:off x="3814920" y="4565520"/>
                <a:ext cx="3200400" cy="167652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9"/>
              <p:cNvSpPr/>
              <p:nvPr/>
            </p:nvSpPr>
            <p:spPr>
              <a:xfrm>
                <a:off x="3819600" y="496728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30"/>
              <p:cNvSpPr/>
              <p:nvPr/>
            </p:nvSpPr>
            <p:spPr>
              <a:xfrm>
                <a:off x="4151160" y="45720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31"/>
            <p:cNvSpPr/>
            <p:nvPr/>
          </p:nvSpPr>
          <p:spPr>
            <a:xfrm>
              <a:off x="4154400" y="5168880"/>
              <a:ext cx="784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2"/>
            <p:cNvSpPr/>
            <p:nvPr/>
          </p:nvSpPr>
          <p:spPr>
            <a:xfrm>
              <a:off x="4011480" y="58514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3"/>
            <p:cNvSpPr/>
            <p:nvPr/>
          </p:nvSpPr>
          <p:spPr>
            <a:xfrm>
              <a:off x="5580000" y="58500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4"/>
            <p:cNvSpPr/>
            <p:nvPr/>
          </p:nvSpPr>
          <p:spPr>
            <a:xfrm>
              <a:off x="4390560" y="5235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5"/>
            <p:cNvSpPr/>
            <p:nvPr/>
          </p:nvSpPr>
          <p:spPr>
            <a:xfrm>
              <a:off x="5773680" y="5168880"/>
              <a:ext cx="784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6"/>
            <p:cNvSpPr/>
            <p:nvPr/>
          </p:nvSpPr>
          <p:spPr>
            <a:xfrm>
              <a:off x="6036840" y="5235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Line 37"/>
          <p:cNvSpPr/>
          <p:nvPr/>
        </p:nvSpPr>
        <p:spPr>
          <a:xfrm>
            <a:off x="1757520" y="12193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1757520" y="36576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9"/>
          <p:cNvSpPr/>
          <p:nvPr/>
        </p:nvSpPr>
        <p:spPr>
          <a:xfrm>
            <a:off x="1757520" y="53341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0"/>
          <p:cNvGrpSpPr/>
          <p:nvPr/>
        </p:nvGrpSpPr>
        <p:grpSpPr>
          <a:xfrm>
            <a:off x="990720" y="739800"/>
            <a:ext cx="1757160" cy="1547640"/>
            <a:chOff x="990720" y="739800"/>
            <a:chExt cx="1757160" cy="1547640"/>
          </a:xfrm>
        </p:grpSpPr>
        <p:grpSp>
          <p:nvGrpSpPr>
            <p:cNvPr id="304" name="Group 41"/>
            <p:cNvGrpSpPr/>
            <p:nvPr/>
          </p:nvGrpSpPr>
          <p:grpSpPr>
            <a:xfrm>
              <a:off x="990720" y="739800"/>
              <a:ext cx="1757160" cy="1547640"/>
              <a:chOff x="990720" y="739800"/>
              <a:chExt cx="1757160" cy="1547640"/>
            </a:xfrm>
          </p:grpSpPr>
          <p:sp>
            <p:nvSpPr>
              <p:cNvPr id="305" name="AutoShape 42"/>
              <p:cNvSpPr/>
              <p:nvPr/>
            </p:nvSpPr>
            <p:spPr>
              <a:xfrm>
                <a:off x="990720" y="739800"/>
                <a:ext cx="175716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43"/>
              <p:cNvSpPr/>
              <p:nvPr/>
            </p:nvSpPr>
            <p:spPr>
              <a:xfrm>
                <a:off x="1605600" y="1766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4"/>
            <p:cNvSpPr/>
            <p:nvPr/>
          </p:nvSpPr>
          <p:spPr>
            <a:xfrm>
              <a:off x="1133640" y="81612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5"/>
          <p:cNvGrpSpPr/>
          <p:nvPr/>
        </p:nvGrpSpPr>
        <p:grpSpPr>
          <a:xfrm>
            <a:off x="990720" y="3102120"/>
            <a:ext cx="1757160" cy="1547640"/>
            <a:chOff x="990720" y="3102120"/>
            <a:chExt cx="1757160" cy="1547640"/>
          </a:xfrm>
        </p:grpSpPr>
        <p:grpSp>
          <p:nvGrpSpPr>
            <p:cNvPr id="309" name="Group 46"/>
            <p:cNvGrpSpPr/>
            <p:nvPr/>
          </p:nvGrpSpPr>
          <p:grpSpPr>
            <a:xfrm>
              <a:off x="990720" y="3102120"/>
              <a:ext cx="1757160" cy="1547640"/>
              <a:chOff x="990720" y="3102120"/>
              <a:chExt cx="1757160" cy="1547640"/>
            </a:xfrm>
          </p:grpSpPr>
          <p:sp>
            <p:nvSpPr>
              <p:cNvPr id="310" name="AutoShape 47"/>
              <p:cNvSpPr/>
              <p:nvPr/>
            </p:nvSpPr>
            <p:spPr>
              <a:xfrm>
                <a:off x="990720" y="3102120"/>
                <a:ext cx="175716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48"/>
              <p:cNvSpPr/>
              <p:nvPr/>
            </p:nvSpPr>
            <p:spPr>
              <a:xfrm>
                <a:off x="1605600" y="41292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Rectangle 49"/>
            <p:cNvSpPr/>
            <p:nvPr/>
          </p:nvSpPr>
          <p:spPr>
            <a:xfrm>
              <a:off x="1148040" y="32004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0"/>
          <p:cNvGrpSpPr/>
          <p:nvPr/>
        </p:nvGrpSpPr>
        <p:grpSpPr>
          <a:xfrm>
            <a:off x="1066680" y="4800600"/>
            <a:ext cx="1757520" cy="1547640"/>
            <a:chOff x="1066680" y="4800600"/>
            <a:chExt cx="1757520" cy="1547640"/>
          </a:xfrm>
        </p:grpSpPr>
        <p:grpSp>
          <p:nvGrpSpPr>
            <p:cNvPr id="314" name="Group 51"/>
            <p:cNvGrpSpPr/>
            <p:nvPr/>
          </p:nvGrpSpPr>
          <p:grpSpPr>
            <a:xfrm>
              <a:off x="1066680" y="4800600"/>
              <a:ext cx="1757520" cy="1547640"/>
              <a:chOff x="1066680" y="4800600"/>
              <a:chExt cx="1757520" cy="1547640"/>
            </a:xfrm>
          </p:grpSpPr>
          <p:sp>
            <p:nvSpPr>
              <p:cNvPr id="315" name="AutoShape 52"/>
              <p:cNvSpPr/>
              <p:nvPr/>
            </p:nvSpPr>
            <p:spPr>
              <a:xfrm>
                <a:off x="1066680" y="480060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53"/>
              <p:cNvSpPr/>
              <p:nvPr/>
            </p:nvSpPr>
            <p:spPr>
              <a:xfrm>
                <a:off x="1682280" y="58276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4"/>
            <p:cNvSpPr/>
            <p:nvPr/>
          </p:nvSpPr>
          <p:spPr>
            <a:xfrm>
              <a:off x="1219680" y="489888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55"/>
          <p:cNvSpPr/>
          <p:nvPr/>
        </p:nvSpPr>
        <p:spPr>
          <a:xfrm>
            <a:off x="239040" y="2133720"/>
            <a:ext cx="265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Tester class. S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of Di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6"/>
          <p:cNvSpPr/>
          <p:nvPr/>
        </p:nvSpPr>
        <p:spPr>
          <a:xfrm>
            <a:off x="7086600" y="2209680"/>
            <a:ext cx="19760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f Die clas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A35-4689-4E33-BB6C-343D068AAA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ie object created has its own instance of the variables declared in the class bluepri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int iMySide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int iMyResu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anc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ce vars are part of the hidden implementation and may b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they are public, which is almost always a bad idea if you follow the tenets of information hiding and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8BE-D525-4F45-A116-60539EEADC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ne of the instance variables is itself an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e Die 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String my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824200" y="2660760"/>
            <a:ext cx="426240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 flipV="1">
            <a:off x="2827440" y="3047760"/>
            <a:ext cx="42591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691080" y="26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2967120" y="3263760"/>
            <a:ext cx="80316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2820960" y="394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y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4160880" y="3944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y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3207960" y="333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4284720" y="3263760"/>
            <a:ext cx="80172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552560" y="333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919080" y="3276720"/>
            <a:ext cx="190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4"/>
          <p:cNvGrpSpPr/>
          <p:nvPr/>
        </p:nvGrpSpPr>
        <p:grpSpPr>
          <a:xfrm>
            <a:off x="152280" y="2720880"/>
            <a:ext cx="1757520" cy="1547640"/>
            <a:chOff x="152280" y="2720880"/>
            <a:chExt cx="1757520" cy="1547640"/>
          </a:xfrm>
        </p:grpSpPr>
        <p:grpSp>
          <p:nvGrpSpPr>
            <p:cNvPr id="341" name="Group 15"/>
            <p:cNvGrpSpPr/>
            <p:nvPr/>
          </p:nvGrpSpPr>
          <p:grpSpPr>
            <a:xfrm>
              <a:off x="152280" y="2720880"/>
              <a:ext cx="1757520" cy="1547640"/>
              <a:chOff x="152280" y="2720880"/>
              <a:chExt cx="1757520" cy="1547640"/>
            </a:xfrm>
          </p:grpSpPr>
          <p:sp>
            <p:nvSpPr>
              <p:cNvPr id="342" name="AutoShape 16"/>
              <p:cNvSpPr/>
              <p:nvPr/>
            </p:nvSpPr>
            <p:spPr>
              <a:xfrm>
                <a:off x="152280" y="272088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7"/>
              <p:cNvSpPr/>
              <p:nvPr/>
            </p:nvSpPr>
            <p:spPr>
              <a:xfrm>
                <a:off x="767880" y="37479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18"/>
            <p:cNvSpPr/>
            <p:nvPr/>
          </p:nvSpPr>
          <p:spPr>
            <a:xfrm>
              <a:off x="295920" y="27972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2362320" y="2666880"/>
            <a:ext cx="0" cy="1676520"/>
          </a:xfrm>
          <a:prstGeom prst="line">
            <a:avLst/>
          </a:prstGeom>
          <a:ln w="254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5486400" y="3192480"/>
            <a:ext cx="1523880" cy="73800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640480" y="3946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612760" y="33116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6858000" y="3581280"/>
            <a:ext cx="10666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 flipH="1">
            <a:off x="7162560" y="3429000"/>
            <a:ext cx="1066680" cy="1219320"/>
          </a:xfrm>
          <a:prstGeom prst="line">
            <a:avLst/>
          </a:prstGeom>
          <a:ln w="2030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6095880" y="4876920"/>
            <a:ext cx="2971800" cy="1295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V="1">
            <a:off x="6095880" y="5333760"/>
            <a:ext cx="297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6095520" y="4876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Str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6171480" y="5391000"/>
            <a:ext cx="275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299520" y="4603680"/>
            <a:ext cx="5333400" cy="14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1 can hold the memory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Die object.  The instanc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Name inside a Die object can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ory address of a Str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break the problem up based on the things / data types that are part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e onl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many different kinds of strategies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dig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, procedural, event driven, data flow, formal methods, agile or extrem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314 we will do a lo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ject ba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5DE-18A6-4E93-9EF5-D145B330D2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3BF-AF65-41C8-9127-7C10A48B06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mplicit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code from the Di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ol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yResult =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ourRandomNumGen.nextInt(iMySides) +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in isolation this code is rather conf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is iMyResult th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's not a parameter or lo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it ex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belongs to the Die object that called this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numerous Die objects in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is used depends on which object called th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609-6005-49A7-85D3-FDA79C1D94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called it may be necessary for the calling object to be able to ref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ikely so it can pass itself somewhere as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calls a method an implicit reference is assigned to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this implicit referenc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ference to the current calling object and may be used as an object variable (may not declare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3EF-B98A-4A5A-9846-4AB07771CC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isual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462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42800" y="838080"/>
            <a:ext cx="703872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some class other than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e d3 = new Di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the Die cla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ol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 iMyResult =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ourRandomNumGen.nextInt(iMySides)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iMyResul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"/>
          <p:cNvGrpSpPr/>
          <p:nvPr/>
        </p:nvGrpSpPr>
        <p:grpSpPr>
          <a:xfrm>
            <a:off x="5257800" y="4016520"/>
            <a:ext cx="3317400" cy="1684440"/>
            <a:chOff x="5257800" y="4016520"/>
            <a:chExt cx="3317400" cy="1684440"/>
          </a:xfrm>
        </p:grpSpPr>
        <p:grpSp>
          <p:nvGrpSpPr>
            <p:cNvPr id="374" name="Group 7"/>
            <p:cNvGrpSpPr/>
            <p:nvPr/>
          </p:nvGrpSpPr>
          <p:grpSpPr>
            <a:xfrm>
              <a:off x="5257800" y="4016520"/>
              <a:ext cx="3200400" cy="1676160"/>
              <a:chOff x="5257800" y="4016520"/>
              <a:chExt cx="3200400" cy="1676160"/>
            </a:xfrm>
          </p:grpSpPr>
          <p:sp>
            <p:nvSpPr>
              <p:cNvPr id="375" name="Rectangle 8"/>
              <p:cNvSpPr/>
              <p:nvPr/>
            </p:nvSpPr>
            <p:spPr>
              <a:xfrm>
                <a:off x="5257800" y="4016520"/>
                <a:ext cx="3200400" cy="167616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9"/>
              <p:cNvSpPr/>
              <p:nvPr/>
            </p:nvSpPr>
            <p:spPr>
              <a:xfrm>
                <a:off x="5262480" y="441792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0"/>
              <p:cNvSpPr/>
              <p:nvPr/>
            </p:nvSpPr>
            <p:spPr>
              <a:xfrm>
                <a:off x="5594040" y="402264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Rectangle 11"/>
            <p:cNvSpPr/>
            <p:nvPr/>
          </p:nvSpPr>
          <p:spPr>
            <a:xfrm>
              <a:off x="5597280" y="4619520"/>
              <a:ext cx="784440" cy="66960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5454360" y="530208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7022880" y="530064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833440" y="4686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216560" y="4619520"/>
              <a:ext cx="784440" cy="66960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479720" y="4686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Line 17"/>
          <p:cNvSpPr/>
          <p:nvPr/>
        </p:nvSpPr>
        <p:spPr>
          <a:xfrm>
            <a:off x="7924680" y="83808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8"/>
          <p:cNvGrpSpPr/>
          <p:nvPr/>
        </p:nvGrpSpPr>
        <p:grpSpPr>
          <a:xfrm>
            <a:off x="6319800" y="304920"/>
            <a:ext cx="1757520" cy="1547640"/>
            <a:chOff x="6319800" y="304920"/>
            <a:chExt cx="1757520" cy="1547640"/>
          </a:xfrm>
        </p:grpSpPr>
        <p:grpSp>
          <p:nvGrpSpPr>
            <p:cNvPr id="386" name="Group 19"/>
            <p:cNvGrpSpPr/>
            <p:nvPr/>
          </p:nvGrpSpPr>
          <p:grpSpPr>
            <a:xfrm>
              <a:off x="6319800" y="304920"/>
              <a:ext cx="1757520" cy="1547640"/>
              <a:chOff x="6319800" y="304920"/>
              <a:chExt cx="1757520" cy="1547640"/>
            </a:xfrm>
          </p:grpSpPr>
          <p:sp>
            <p:nvSpPr>
              <p:cNvPr id="387" name="AutoShape 20"/>
              <p:cNvSpPr/>
              <p:nvPr/>
            </p:nvSpPr>
            <p:spPr>
              <a:xfrm>
                <a:off x="6319800" y="30492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21"/>
              <p:cNvSpPr/>
              <p:nvPr/>
            </p:nvSpPr>
            <p:spPr>
              <a:xfrm>
                <a:off x="6935400" y="13320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Rectangle 22"/>
            <p:cNvSpPr/>
            <p:nvPr/>
          </p:nvSpPr>
          <p:spPr>
            <a:xfrm>
              <a:off x="6472800" y="4032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23"/>
          <p:cNvSpPr/>
          <p:nvPr/>
        </p:nvSpPr>
        <p:spPr>
          <a:xfrm>
            <a:off x="2738520" y="4245120"/>
            <a:ext cx="1757160" cy="107136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119760" y="5272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891160" y="4343400"/>
            <a:ext cx="1460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4267080" y="4626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B94-AFD0-4C95-8F1D-FD6A271095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bjects of the same type in a class can be conf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ls method for the Die class. assume every Die has a myName instance variable as well as iMyNumber and iMy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DCD-5F86-4553-AD5C-50B2DB65590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Possible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706320" y="6094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MySides == other.iMy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iMyResult== other.iMy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myName.equals( other.my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d Type of Parameter is Object not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(replace) the equals method instead of overload (present an alternate 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create generi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e the equals method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Objec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another object's private instance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F3E5-A76A-4359-953A-8882A579D8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equals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2000" y="1143000"/>
            <a:ext cx="895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iMySides == other.iMy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this.iMyNumber == other.iMy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this.myName.equals( other.my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47160" y="4003560"/>
            <a:ext cx="84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this keyword / reference to access the implici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 is unnecess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method within the same class is called within a method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alling object is still the call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516-21C8-4E8E-A576-A7F434C6D76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"Perfect"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ay Horstmann'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e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06360" y="1447920"/>
            <a:ext cx="8867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check if objects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this == other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ust return false if explicit parameter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otherObject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f objects not of same type they cannot be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getClass() != otherObject.getClass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we know otherObject is a non null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MySides == other.iMy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iMyNumber == other.iMy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myName.equals( other.myNa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8034-3B30-4FE1-A119-91280DE633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stanceof Op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Java key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a boolea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boolean equals(Object otherObj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otherObj instanceof D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now go and ca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rest of equals meth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use instanceof in equal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its uses but not in equals because of the contract of the equal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6DB-98E7-4B0F-8CFB-9B04CE7C9A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 Variables and Class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very object of a class does not need its own copy of a variable or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class variables, constants,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Random ourRandNum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= new Random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ublic static final int DEFAULT_SIDES = 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evalent use of static is for class cons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can't be changed why should every object have a copy of this non changing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804-0F94-46B0-81BD-E2F770315E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 Variables and Consta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690480" y="1219320"/>
            <a:ext cx="525312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90480" y="1219320"/>
            <a:ext cx="525312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693720" y="1599840"/>
            <a:ext cx="5249880" cy="20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66480" y="12254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i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330200" y="1822320"/>
            <a:ext cx="80352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687600" y="25052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_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1571400" y="1889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0"/>
          <p:cNvSpPr/>
          <p:nvPr/>
        </p:nvSpPr>
        <p:spPr>
          <a:xfrm>
            <a:off x="3886200" y="1751040"/>
            <a:ext cx="1523880" cy="73800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507120" y="25052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rRandNum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4041000" y="18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"/>
          <p:cNvSpPr/>
          <p:nvPr/>
        </p:nvSpPr>
        <p:spPr>
          <a:xfrm>
            <a:off x="5410080" y="2133720"/>
            <a:ext cx="2057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"/>
          <p:cNvSpPr/>
          <p:nvPr/>
        </p:nvSpPr>
        <p:spPr>
          <a:xfrm flipH="1">
            <a:off x="6095880" y="1828800"/>
            <a:ext cx="1067040" cy="1219320"/>
          </a:xfrm>
          <a:prstGeom prst="line">
            <a:avLst/>
          </a:prstGeom>
          <a:ln w="2030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5638680" y="3200400"/>
            <a:ext cx="2971800" cy="1295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 flipV="1">
            <a:off x="5638680" y="3657600"/>
            <a:ext cx="297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638320" y="3200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Random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5714280" y="3714840"/>
            <a:ext cx="275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587160" y="3352680"/>
            <a:ext cx="48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bjects of type Di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the clas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blic class variable or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referred to via the class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EDA-972F-493B-8485-68618BD79A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- Monopo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33520" y="1085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17733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1951200" cy="22240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6"/>
          <a:stretch/>
        </p:blipFill>
        <p:spPr>
          <a:xfrm>
            <a:off x="-223920" y="1085760"/>
            <a:ext cx="8829720" cy="5114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93880" y="674640"/>
            <a:ext cx="308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o st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cratch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would w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42D1-54D7-4AEE-8D5E-4E27D21D36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yntax for Accessing Class Variabl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65760" y="762120"/>
            <a:ext cx="836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Die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public static void main(String[] ar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System.out.println( "Die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ie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ny attempt to access Die.ourRandNum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would generate a syntax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1 = new Die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 "Die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ie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 "d1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1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gardless of the number of Die objec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xistence, there is only one copy of DEFAULT_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n the Di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// end of 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// end of UseDieStat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B21-F953-446A-BED4-5D008AAD0F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somewhat different meaning when used in a method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thods may not manipulate any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n static methods, some object invokes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that makes the method call is an implicit parameter to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E526-5AB1-4F8F-98DE-828221CBFC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implicit object parameter sent to the static method it does not have access to a copy of any objects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of course that object is sent as an explici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thods are normally utility methods or used to manipulate static variab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class variabl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and System classes are nothing but static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487-A965-4E22-B67A-CBDA9ADF6A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and 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work (added to Die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doesn'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380880" y="4114800"/>
            <a:ext cx="87631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atic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System.out.println( thi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190440" y="1295280"/>
            <a:ext cx="87631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outputSel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System.out.println( thi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D2CB-0676-427A-99CB-2D7FE2C7D3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atures of object oriented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the data of an object (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perations and data together into a new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easier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 than underst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actly 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wave, car, computer, software, mp3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velop a class that models a list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 pale imitation of the Java ArrayLis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n an array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e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- our fir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able that stores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maintain elements in a definite order and duplicates are allow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D0B4-0192-407E-BE26-4FA7B5AB59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994B-4AE9-4903-9263-F4F2A8F5922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will have an array of ints instance variabl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What should the length of this internal array b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ss than or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reater than or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ome fixed amount that never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968-E8AE-41B7-888D-1C75DE2FDC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dding a new element to a lis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should the new element be added by defaul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rando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Don’t bother to actually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1-26T18:40:37Z</dcterms:modified>
  <cp:revision>110</cp:revision>
  <dc:subject/>
  <dc:title>PowerPoint Presentation</dc:title>
</cp:coreProperties>
</file>