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15ACCEDB-1BD4-4630-A40B-2DFB28AD5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680C998-1401-4473-A5CD-A22B61D6D8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F88-CBDA-4244-901D-7DB1F187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F3F7-874E-4686-ABA3-D49ED672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9844-9921-4123-A394-AF3AD990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0A2-9799-49D1-9B70-33E0A2B8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52D-9FF1-406E-9425-759FCB17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C78-FAD1-4E87-A9D5-A9A89CC7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B18-DA3C-4E1D-B0DF-DFA93457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AA0-D23D-4CE5-B651-E5EF81AE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CD9-5EB0-433A-8D97-7732AAF8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843-0671-4005-BA14-5731FF67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194-1697-40A7-8210-662970A7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A47-E07F-446F-BFCB-22609C8A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E07D-AA3B-47FF-8D44-F577F428A8A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3E72-7CC1-4A8B-B158-12AFB68BBE4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66680" y="685800"/>
            <a:ext cx="70106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762120" y="2819520"/>
            <a:ext cx="7391160" cy="167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"Question: What is the object oriented way of getting rich?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nswer: Inheritance.“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DFAD-6944-4C2A-B7EE-4C41C6C9F92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rimary reason for using inheritance when programming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make a program mor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o copy and paste code betwee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reuse pre-existing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o hide implementation details of a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nsure pre conditions of methods are m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00A7-12A5-4E17-8289-378C2F6A208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output whe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s run?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f1 = new Fo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1.toString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Unknown until code is actually r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No output due to a syntax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No output due to a runtime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Code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lass named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lass does Shape inherit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ethods can we call on Shape ob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instance variables for a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oStr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ircle class that extend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instance variable for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 and look at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access instance var from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key wor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B428-6CEC-4D45-A4E5-04D7EFDA9F5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E2F4-F42D-434F-A443-B955D382378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verriding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ethod that is not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be overridden by a descendan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ignature as method in ance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ot reduce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use the original method if simply want to add more behavior to exi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4922-67C8-484C-9510-608F94DE350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struct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960" y="7621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s handle initialization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reating an object with one or more ancestors (every type except Object) a chain of constructor calls take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erved wor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be used in a constructor to call a one of the parent's 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first line of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parent constructor is explicitly called the default, 0 parameter constructor of the parent i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default constructor exists a syntax erro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arent constructor is called another constructor in the same class may no be c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();this(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ed. One or the other, not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lace for an initializa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FDAA-937F-4F9E-83B1-A4303902877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Keywor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sup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to access something (any protected or public field or method) from the super class that has been overrid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kes use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losedShape my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.toString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the super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sult in infinite recursive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does not allow nested su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super.toString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a syntax error even though technically this refers to a valid metho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s to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rides ClosedShap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eating a SortedIntLis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859B-11AA-4044-860E-FEFEF47BE44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New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we want to have a list of ints, but that the ints must always be maintained in ascending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-7, 12, 37, 212, 212, 313, 313, 50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ortedList.get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the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ortedList.get( list.size() – 1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the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248A-2325-4B89-B6EC-CBB5232D527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mplementing </a:t>
            </a:r>
            <a:r>
              <a:rPr b="0" lang="en-US" sz="4000" spc="-1" strike="noStrike">
                <a:solidFill>
                  <a:srgbClr val="ff0000"/>
                </a:solidFill>
                <a:latin typeface="Courier New"/>
              </a:rPr>
              <a:t>SortedIntList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have to write a whole new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we have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er 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ich of the following methods have to be chang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(int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get(int 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toStrin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siz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remove(int 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A439-3178-4A8F-B67B-6A6EACC29AE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verriding 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add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ttem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with inser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edged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lly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0455-4FB8-4645-B44E-3D5D6A9C776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atures of OO Programm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h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ing problem up based on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New code using old cod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120" y="6094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IntList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vate in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[] 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ortedIntList extends IntLis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ortedIntList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size); // Out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unknown until code is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no output due to a compil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no output due to a runtim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C5DE-1AFA-43AE-8652-CEC09AEFC97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DE22-70FF-4CF4-AC1B-629AB279A68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his meth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oid insert(int location, int v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his meth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oid insertAll(int loca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List other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ortedInt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good application of inheritance give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Example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Shape and Rectangle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F515-0429-405F-8590-FA138068B5F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B4E0-3F97-430C-928E-52FD3338CF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hape Class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e a class calle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osed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ll shapes have x and y coord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rid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s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sub classe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osed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sedSha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-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-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16F5-56E8-4FDE-B22B-84362209A6E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1080" y="-2289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ClosedShape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876240" y="727200"/>
            <a:ext cx="7810560" cy="52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losedShape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 private double myX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private double my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osedShape(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 this(0,0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osedShape (double x, double y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 myX = x;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myY = y;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{ return "x: " + getX() + " y: " + getY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X(){ return myX; 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Y(){ return myY; 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Other methods not show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8402-3FF2-4A29-9951-E7BDD6D50E5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Rectangle Construct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86040" y="950760"/>
            <a:ext cx="804456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Rectangle extends ClosedSha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  private double myWidth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private double myHeight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Rectangle( double x, double 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width, double height 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   super(x,y)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calls the 2 double constructor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// ClosedShap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Width = width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myHeight = height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other methods not show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D0B0-9D6A-43A8-A20B-B92A7D509DD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Rectangle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17960" y="685800"/>
            <a:ext cx="639864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tangle extends ClosedShap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private double myWidth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private double myHeigh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Rectangl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{  this(0, 0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Rectangle(double width, double heigh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{  myWidth = width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myHeight = heigh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Rectangle(double x, double y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width, double heigh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x, y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Width = width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Height = heigh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{  return super.toString() + " width " + myWidt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+ " height " + myHeigh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2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F933-0CA2-43A9-A80D-6DE601863C4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itialization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129320" y="762120"/>
            <a:ext cx="69015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ctangle extends ClosedShap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 private double myWidth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myHeight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 init(0, 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width, double heigh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 init(width, height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x, double 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width, double heigh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 super(x, y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it(width, height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init(double width, double heigh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{  myWidth = width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myHeight = height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5B64-1A6B-476D-B6A6-2191970D1A5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ult of Inherit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any of these cause a syntax err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outp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 r = new Rectangle(1, 2, 3, 4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sedShape s = new CloseShape(2, 3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 s.getX() 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 s.getY(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 s.toString() 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 r.getX(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 r.getY(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 r.toString() ); System.out.println( r.getWidth(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C616-5656-4DBD-BD5E-8E044032F78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Real Pictur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28800" y="2286000"/>
            <a:ext cx="5429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260440" y="2286000"/>
            <a:ext cx="60454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1828800" y="1676520"/>
            <a:ext cx="4419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593800" y="237636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s from ClosedShape class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955960" y="3048120"/>
            <a:ext cx="504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 Variables declared in ClosedShape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2257560" y="685800"/>
            <a:ext cx="60483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2592360" y="76212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s from Object class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2286000" y="12193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2955960" y="1295280"/>
            <a:ext cx="382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 variables declared in Object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AutoShape 13"/>
          <p:cNvSpPr/>
          <p:nvPr/>
        </p:nvSpPr>
        <p:spPr>
          <a:xfrm>
            <a:off x="1676520" y="1295280"/>
            <a:ext cx="304560" cy="3886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80280" y="2666880"/>
            <a:ext cx="155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85680" y="4264200"/>
            <a:ext cx="173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ll metho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bjec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Shap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ctang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2286000" y="29718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2260440" y="4176720"/>
            <a:ext cx="60454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2593080" y="4267080"/>
            <a:ext cx="45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s from Rectangle class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2955960" y="4938840"/>
            <a:ext cx="504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 Variables declared in Rectangle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2286000" y="48625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capsul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rogram to allow people to play the game Mono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lasses for money, dice, players, the bank, the board, chance cards, community chest cards, piec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lasses use other classes.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ar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ists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ay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e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B84E-224E-4F73-AC11-88A1D2C3361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A69D-2FDA-4A27-8226-4B5C1A178BA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ess Modifiers and Inherit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52440"/>
            <a:ext cx="86137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ble to all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ble only within that class. Hidden from all sub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ble by classes within the sa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ll descendant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 variabl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methods are used to allow descendant classes to modify instance variables in ways other classes can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5EEF-2541-40E7-A1C9-AE2E929DA17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y private Vars and not protected?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 it is good practice to make instance variables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e them from your descend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think descendants will need to access them or modify them provide protected methods to do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following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0AA3-C120-486F-A2DD-350F198B4F3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quired updat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763920" y="879480"/>
            <a:ext cx="768780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lass GamePie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Board myBoard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Position myPos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whenever my position changes I mu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update the board so it knows about the chang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ed void alterPos( Position newPos 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oldPos = myPo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Pos = newPo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Board.update( oldPos, myPos 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herit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kind of relationship exists between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properties in Mono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e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 of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ilroa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 of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til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 of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0BB3-C3AF-42EB-AEC9-1431B630BF6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1771560" cy="20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3124080" y="4114800"/>
            <a:ext cx="1809720" cy="2076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6019920" y="4114800"/>
            <a:ext cx="17240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herit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5335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nopoly there is the concept of a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perties have some common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a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a position on th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owned by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a price to bu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 things are different for each of the three kinds of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termine rent when another player lands on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4B4F-0918-40B1-87E8-FFA150B5639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to Do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have a separate class for Street, Railroad, and Utility there is going to be a lot of code co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to mai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ti-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ance is a programming feature to allow data types to build on pre-existing data types without repeating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75A1-542F-4DE2-9F3A-992CE9C49F3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chanics of Inherit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3FB7-DED2-4CF7-834C-F9E5EDBBCDE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of instanc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of instanc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initialization and constr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ing a parent constructor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pe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rid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overriding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per.parentMethod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requirement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hierarc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1CDE-FA43-4257-848D-13A002629A9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heritance in Jav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960" y="6091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is designed to encourage object oriente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lasses, except on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herit from exactly one othe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smic super 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does not inherit from any other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has several important method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lasses are descendant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lasses and thus all objects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la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rmally overrid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1664-88B4-4F68-8E38-2CDB9426AB0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menclature of Inherit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8480" y="838080"/>
            <a:ext cx="808200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ava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yword is used in the class header to specify which preexisting class a new class is inheriting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tudent extends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is said to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ent class of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per class of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e class of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ncestor of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is sai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ild class of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 class of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rived class of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scendant of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1-02-02T18:21:43Z</dcterms:modified>
  <cp:revision>80</cp:revision>
  <dc:subject/>
  <dc:title>PowerPoint Presentation</dc:title>
</cp:coreProperties>
</file>