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A05169C-DFB6-456E-818A-55D759C08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7A33C09D-7CB8-4A01-BD69-2BBE93B3C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047-8AB1-485A-B151-ECD9C651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C4B-955B-4E28-B8BB-721D5E7D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F5E-B9D8-41B3-B1D3-5FFBFFA9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A10-5083-48E1-AFF9-65AE362C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4C8-021B-481A-8903-BA0955C8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5CA-BBDE-4451-AC55-90B37952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2F4-077F-4255-8A9B-C30C9E57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41E-BDE6-4867-A18D-399E44FD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E29-0A06-4123-A9A2-6704CBF8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B67-50A7-4E4C-802B-6439D23A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82B-DE15-4131-A2B2-F8582E4C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77A-657F-4FC8-9D1D-84974A0E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0756-AC16-4B8A-8DE4-2F9F9E26DB1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0566-1BAF-4664-A49A-FF7E9634A6D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66680" y="685800"/>
            <a:ext cx="70106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762120" y="2819520"/>
            <a:ext cx="7391160" cy="16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"Question: What is the object oriented way of getting rich?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swer: Inheritance.“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7B54-8582-458D-87C4-3D677FBF324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rimary reason for using inheritance when programming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make a program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o copy and paste code betwee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reuse pre-existing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 hide implementation details of 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nsure pre conditions of methods are m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5002-AC03-453E-8D6C-7D4F1DBA3FB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output whe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run?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f1 = new Fo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1.toString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Unknown until code is actually 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No output due to a syntax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No output due to a runtime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Cod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lass named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lass does Shape inheri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ethods can we call on Shape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nstance variables for a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oStr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ircle class that extend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nstance variable for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and look at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access instance var from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key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5490-4BDF-4DE5-ABDA-45429A1C532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1E93-3DD0-4D2E-8AD5-54D51157B9B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verriding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ethod that is not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be overridden by a descendan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ignature as method in ance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ot reduce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use the original method if simply want to add more behavior to exi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8052-018F-4A13-9815-CA88CAD4944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struc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 handle initialization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reating an object with one or more ancestors (every type except Object) a chain of constructor calls take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erved wor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be used in a constructor to call a one of the parent's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first line of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parent constructor is explicitly called the default, 0 parameter constructor of the parent 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default constructor exists a syntax erro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arent constructor is called another constructor in the same class may no be c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();this(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ed. One or the other, not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lace for an initializ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B164-B486-493C-A1E0-38C417043E7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Keywor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sup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access something (any protected or public field or method) from the super class that has been overrid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kes us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losedShape my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.toString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the super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sult in infinite recursiv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does not allow nested su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super.toString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a syntax error even though technically this refers to a valid metho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s to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rides ClosedShap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eating a SortedIntLi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43BD-EF4C-4062-85B7-3BFD9684CAB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New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we want to have a list of ints, but that the ints must always be maintained in ascending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-7, 12, 37, 212, 212, 313, 313, 50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ortedList.get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the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ortedList.get( list.size() – 1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A38D-DAA7-45FE-A5D0-A646901490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mplementing </a:t>
            </a:r>
            <a:r>
              <a:rPr b="0" lang="en-US" sz="4000" spc="-1" strike="noStrike">
                <a:solidFill>
                  <a:srgbClr val="ff0000"/>
                </a:solidFill>
                <a:latin typeface="Courier New"/>
              </a:rPr>
              <a:t>SortedIntLis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have to write a whole new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we have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er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ich of the following methods have to be chan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(int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get(int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to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siz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remove(int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557C-A93E-4627-99D8-9A59B40B3E7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verriding 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add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ttem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with inser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edged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lly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1F9F-0E21-4A26-B028-00CE8108B64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atures of OO Program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h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problem up based on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New code using old cod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120" y="6094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IntList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vate i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[]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ortedIntList extends IntLis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ortedIntList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ize); // Out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unknown until code is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no output due to a compil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no output due to a runtim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FFA6-38B3-4BBD-8D77-BFD270021A5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AAE6-CB22-451E-8090-200D41E033B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his meth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oid insert(int location, int v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his meth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oid insertAll(int loc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List other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ortedInt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good application of inheritance give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Example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Shape and Rectangle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2AC8-B6BC-4CDF-B2AF-6434818A7EC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F5A0-5B70-4EAF-9DC3-E98256BECC0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ape Clas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e a class call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osed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ll shapes have x and y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ri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s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sub classe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osed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sed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-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-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4B95-DFD4-4C91-86C0-6EEB8AE0D3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1080" y="-2289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ClosedShape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76240" y="727200"/>
            <a:ext cx="781056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losedShape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 private double my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private double my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osedShape(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 this(0,0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osedShape (double x, double y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 myX = x;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myY = y;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{ return "x: " + getX() + " y: " + getY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X(){ return myX; 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Y(){ return myY; 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Other methods not show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1BDE-E971-4CC2-8356-4826220B3BD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Rectangle Construct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6040" y="950760"/>
            <a:ext cx="80445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Rectangle extends ClosedSha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  private double myWidth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private double myHeight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Rectangle( double x, double 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width, double height 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   super(x,y)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calls the 2 double constructor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// ClosedShap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Width = width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myHeight = height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other methods not show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E894-22DC-409B-A5AA-F19229B3DA1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Rectangle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17960" y="685800"/>
            <a:ext cx="63986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tangle extends ClosedSha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private double myWidth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private double myHeigh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Rectangl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{  this(0, 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Rectangle(double width, double heigh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{  myWidth = width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myHeight = heigh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Rectangle(double x, double y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width, double heigh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x, y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Width = width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Height = heigh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{  return super.toString() + " width " + myWid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+ " height " + myHeigh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C514-B0F5-4BBA-A995-979605F8E5B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itialization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129320" y="762120"/>
            <a:ext cx="69015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extends ClosedShap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 private double myWidth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myHeight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 init(0, 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 init(width, height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x, double 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width, double heigh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 super(x, y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(width, height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init(double width, double heigh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{  myWidth = width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myHeight = height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436C-A86D-4C10-A481-D56E1C4B61C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ult of Inherit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any of these cause a syntax err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outp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 r = new Rectangle(1, 2, 3, 4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sedShape s = new CloseShape(2, 3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s.getX() 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s.getY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s.toString() 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r.getX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r.getY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r.toString() ); System.out.println( r.getWidth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0C72-7665-4681-993B-F649B59B560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Real Pictur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28800" y="2286000"/>
            <a:ext cx="5429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260440" y="2286000"/>
            <a:ext cx="60454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828800" y="1676520"/>
            <a:ext cx="4419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593800" y="237636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s from ClosedShape clas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955960" y="3048120"/>
            <a:ext cx="504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Variables declared in ClosedShape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2257560" y="685800"/>
            <a:ext cx="60483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592360" y="7621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s from Object clas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2286000" y="12193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955960" y="1295280"/>
            <a:ext cx="382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variables declared in Object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AutoShape 13"/>
          <p:cNvSpPr/>
          <p:nvPr/>
        </p:nvSpPr>
        <p:spPr>
          <a:xfrm>
            <a:off x="1676520" y="1295280"/>
            <a:ext cx="304560" cy="3886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80280" y="2666880"/>
            <a:ext cx="155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85680" y="4264200"/>
            <a:ext cx="173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ll metho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bjec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Shap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ctang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2286000" y="29718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2260440" y="4176720"/>
            <a:ext cx="60454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2593080" y="4267080"/>
            <a:ext cx="45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s from Rectangle clas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2955960" y="4938840"/>
            <a:ext cx="504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Variables declared in Rectangle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2286000" y="48625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aps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gram to allow people to play the game Mo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lasses for money, dice, players, the bank, the board, chance cards, community chest cards, piec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lasses use other classes.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ar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ists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y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e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D9FD-AE4F-4680-BD04-50A1E91BEE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4803-A1E6-4448-A6A7-ECEE7D6D1E4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 Modifiers and Inherit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52440"/>
            <a:ext cx="86137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le to all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le only within that class. Hidden from all sub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le by classes within the sa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ll descendant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variabl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methods are used to allow descendant classes to modify instance variables in ways other classes can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486A-8CAF-4946-B624-72A53B52F7C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 private Vars and not protected?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it is good practice to make instance variables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 them from your descend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think descendants will need to access them or modify them provide protected methods to d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following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F055-21E8-4D18-B32F-C12AB6709C7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quired updat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763920" y="879480"/>
            <a:ext cx="76878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 GamePie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Board myBoard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Position myPos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whenever my position changes I mu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update the board so it knows about the chang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ed void alterPos( Position newPos 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oldPos = myPo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Pos = newPo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Board.update( oldPos, myPos 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herit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kind of relationship exists between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properties in Mo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e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 of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ilroa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 of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til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 of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519A-F89D-4910-9BB6-D44303D6654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1771560" cy="20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124080" y="4114800"/>
            <a:ext cx="1809720" cy="2076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6019920" y="4114800"/>
            <a:ext cx="17240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herit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5335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nopoly there is the concept of a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perties have some common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a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a position on th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owned by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a price to b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 things are different for each of the three kinds of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termine rent when another player lands on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2E52-7687-46E5-A68F-4114E39CA9A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to Do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have a separate class for Street, Railroad, and Utility there is going to be a lot of code 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ti-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ance is a programming feature to allow data types to build on pre-existing data types without repeating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2618-723A-4C5F-87A5-34BF6E9ABE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chanics of Inherit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9DC8-E76A-4086-854C-1F404F33636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of instanc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of instanc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initialization and 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ing a parent constructor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pe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rid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overriding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per.parentMethod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requirement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hier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AA92-2F28-4093-9E01-EA517DB133B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heritance in Jav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960" y="6091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is designed to encourage object 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lasses, except on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herit from exactly one oth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smic super 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does not inherit from any othe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has several important method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lasses are descendant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lasses and thus all objects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la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rmally overri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32E9-1ECC-45E4-997D-ACCDDC18DC4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menclature of Inherit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8480" y="838080"/>
            <a:ext cx="808200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yword is used in the class header to specify which preexisting class a new class is inheriting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tudent extends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is said to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ent class of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per class of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e class of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ncestor of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is sai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ild class of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 class of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rived class of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scendant of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2-02T18:21:43Z</dcterms:modified>
  <cp:revision>80</cp:revision>
  <dc:subject/>
  <dc:title>PowerPoint Presentation</dc:title>
</cp:coreProperties>
</file>