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9A4C0-6D13-46E3-B2D2-A95916825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3DCC4-3627-4EDA-9BE8-D1843B15E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3BC-E6B9-4B8D-8D69-7E4A471D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1D9-EC9E-42B4-87BC-2CEB615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2C0-C339-4C88-8DB8-434BE1F3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66E-6E90-47B6-801F-16DCDB4D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973-924E-4DAB-8B00-F2D26A7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405-41C1-4238-B730-BDE3E99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712-51B0-4C61-B087-AF9975AF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664-4746-4C1F-89A3-A3DCED2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DC0-FB8A-4284-9F29-5B6E816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3FE-740E-4222-89F0-EF15FEA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D6A-CEB2-45CA-AD95-BB8E63CC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378-E181-4339-866A-6B49965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CA5E-AC09-4301-979C-4FA6A729BF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6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ric Type Paramete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582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Get your data structures correct first, and the rest of the program will write itself."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avid J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s this a bug or a feature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61D5-A7FC-4440-86DD-CDB6F6A623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334120" cy="3460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316-18C1-4CB6-ADC7-55E8122D6E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ic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12760" y="67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syntax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ized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ic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ost of the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ditional parame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type and can store various values just like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foo(int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Types are like parameters, but the data type for the paramete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variable that stores a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 is an 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ctually, all data type info is erased at compile time and replaced with casts and, typically, variables of typ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3D20-D925-48B9-9D00-5BB0FF9287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our Array List Generic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 variables declared in class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class GenericList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eclaration of a data type parameter for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legal identifi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y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TypeThisList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 style guide recommends terse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E stores will be filled in whenever a programmer creates a new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neric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nericList&lt;String&gt; li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GenericList&lt;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9FD-A830-47F0-BA2E-B603384413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ications to Generic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E[] myC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, insert, remove, inser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yp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creation of internal storage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Con = (E[]) new Object[DEFAULT_SIZE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 header does no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ications to GenericLi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with the equal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ype information is actually erased at compil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untime not sure what data type of elements are. (Unless we get into reflectio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wild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 on the elements equal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6BC-C6E1-44D9-A099-1125FA6ABF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7D92-8185-47DF-B91B-9F1EB990A0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Generic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Java's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 list1 = new ArrayLi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llowed, a "raw" Array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just like our first pass at Generic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, lack of typ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F25-57DA-4A2C-9817-19B017CB83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Generic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&lt;String&gt; list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ArrayList&lt;String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st2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2.add( "Isabelle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(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2.get(0).charAt(2) ); //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2.add( new Rectangle() 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/ 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879C-6D7A-47AA-BD4C-5E10335548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meters and Generic Typ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all elements of li are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FirstChar(ArrayList l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FirstChar(ArrayList&lt;String&gt; li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list3 = new ArrayList&lt;String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irstChar( list3 ); //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4 = new ArrayList&lt;Integer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irstChar( list4 ); // syntax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237-A4CC-4C1F-B2E7-3D694598FE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eric Types and Subclass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&lt;Shape&gt; list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 ArrayList&lt;Shape&gt;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.add( new Rectangle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.add( new Square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.add( new Circle(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all o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t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nd any descendan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40AA-A86A-4D6D-9847-C40086C5EC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ck to our Array Based List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ith a list of 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want to have to write a new list class for every data type we want to store in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an array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to store the elements of th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from array ba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Object[] myC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1AB2-36AF-439D-AFD1-A7E5DA6A0E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Obj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, all classes inherit from exactly one other class except Object which is at the top of the clas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ll classes are descendants of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variables can refer to objects of their declared type and any descend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f the internal storage container is of type Object it can hold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s hand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 in objec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– Integer, char -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C37A-5D48-4536-8D97-C48CF5DDA7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fficulties with Obj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ic data structures using the Object data type and polymorphism is relatively straigh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se generic data structrues leads to som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examples on the following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ericList list = new GenericList();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 s = new Street("Boardwalk", 400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.B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s); /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list.get(0).getPrice());/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B. No output due to syntax error at line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No output due to syntax error at line /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D. No output due to syntax error at line //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. No output due to runtime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39C6-6274-4ED8-8FC1-C75736F22F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F45-D87F-4C39-BD2B-48D530ACDD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de Example -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lis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icList li = new GenericLis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.add("Hi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 li.get(0).charAt(0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revious line has 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return type of get i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bject does not have a charA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compiler relies on declare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(String) li.get(0)).charAt(0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must cast to 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302-403C-477D-A6BE-63566EAEA12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de Example – type check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7440" y="1143000"/>
            <a:ext cx="914184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all elements of li are Monopol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Prices(GenericList li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0; i &lt; li.size()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temp = (Property) li.ge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temp.getPric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what happens if pre condition not m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8A2E-89B8-4F46-A804-79ED20331E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Fixing" the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6320" y="838080"/>
            <a:ext cx="91440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pre: all elements of li are Monopol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Prices(GenericList li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0; i &lt; li.size()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GACK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i.get(i) instanceof Propert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temp = (Property) li.ge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temp.getPric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9A6B-DA1B-4B37-A43C-C5ED1EA830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 - Too Generic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code comp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icList list = new Generic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"Olivi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new Integer(12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12); // autobox aka autow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new Rectangle(1, 2, 3, 4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.add(new GenericLis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2-09T18:24:15Z</dcterms:modified>
  <cp:revision>96</cp:revision>
  <dc:subject/>
  <dc:title>PowerPoint Presentation</dc:title>
</cp:coreProperties>
</file>