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EE30-F7B7-488A-959A-8E296C03E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EFB45-7337-4F9F-BCBC-D27E7FF45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E44-7F21-4C75-8945-B1FA3F54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843-B49F-48F6-B2CA-13D4721F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3C9-154D-4187-A0E9-7F70D185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E17-E125-4020-9E62-B7530D27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032-AE4B-4BF1-B098-1A37C834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1D0-DA7B-4135-B052-61576D25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1B0-0346-42FD-95C4-D86E90AF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6DB-C6AA-42CF-B4C1-328FB275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615-887B-4BCB-9E97-59D6F245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44A-96DE-42D0-B866-8AFB974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812-EEF1-4050-A973-D88ED49F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43C-A02A-4C39-9F95-3C380A47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EBA9-4057-4195-A3AF-099C14B95F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6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eric Type Parameter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84582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Get your data structures correct first, and the rest of the program will write itself."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avid J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s this a bug or a feature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EC28-EB2B-4FFB-A5CC-32D821CE6E0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5334120" cy="3460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500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952E-7C45-4AB2-A9A0-E1261EA406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ic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12760" y="67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syntax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terized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ic Typ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most of the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ditional parame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type and can store various values just like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void foo(int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Types are like parameters, but the data type for the parameter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variable that stores a data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s is an 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ctually, all data type info is erased at compile time and replaced with casts and, typically, variables of typ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C546-D55E-4120-A811-A27B493032F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our Array List Generic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 variables declared in class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 class GenericList&lt;E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declaration of a data type parameter for th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legal identifier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y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TypeThisList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 style guide recommends terse ide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E stores will be filled in whenever a programmer creates a new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neric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nericList&lt;String&gt; li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GenericList&lt;&gt;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AF96-ED06-4BDF-936A-8502E47341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ifications to GenericLi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E[] myC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, insert, remove, inser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yp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creation of internal storage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Con = (E[]) new Object[DEFAULT_SIZE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 header does not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ifications to GenericLi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with the equal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ype information is actually erased at compil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untime not sure what data type of elements are. (Unless we get into reflectio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wild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y on the elements equal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ECB2-91A3-4949-A1A1-5DF5AD5D03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DDCA-B838-4C57-BAD4-27D9E68510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Generic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o Java's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 list1 = new ArrayLi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allowed, a "raw" Array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just like our first pass at Generic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ing, lack of typ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D00A-3B91-47A5-BFC2-CA1B1C6949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Generic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&lt;String&gt; list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ArrayList&lt;String&gt;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st2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or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st2.add( "Isabelle"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.println(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st2.get(0).charAt(2) ); //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st2.add( new Rectangle() 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/ syntax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2E0F-4118-4199-8480-AD167B1C701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meters and Generic Typ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pre: all elements of li are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FirstChar(ArrayList l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pre: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FirstChar(ArrayList&lt;String&gt; li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list3 = new ArrayList&lt;String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irstChar( list3 ); //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4 = new ArrayList&lt;Integer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irstChar( list4 ); // syntax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B618-13D5-4612-BA47-E217BD93DF1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neric Types and Subclass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&lt;Shape&gt; list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ArrayList&lt;Shape&gt;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5.add( new Rectangle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5.add( new Square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5.add( new Circle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all o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sto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and any descendant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3EE4-5C4C-4E0A-8E7D-448F28387A5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ck to our Array Based List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with a list of 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want to have to write a new list class for every data type we want to store in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an array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to store the elements of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from array bas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Object[] myC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35CA-F866-45ED-AFD7-C27F4D63A11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Obje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, all classes inherit from exactly one other class except Object which is at the top of the class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all classes are descendants of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variables can refer to objects of their declared type and any descend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if the internal storage container is of type Object it can hold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es handl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m in object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– Integer, char -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DD16-3B1B-4EC5-A8DA-523D6523A73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fficulties with Obje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ic data structures using the Object data type and polymorphism is relatively straigh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se generic data structrues leads to som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examples on the following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ericList list = new GenericList(); //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 s = new Street("Boardwalk", 400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.B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s); /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list.get(0).getPrice());//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B. No output due to syntax error at line //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C. No output due to syntax error at line /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D. No output due to syntax error at line //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E. No output due to runtime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5EA5-D951-4D75-8150-945489AF5F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F91E-B4AB-4F13-9617-A2B27CAC00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de Example - Cas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lis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icList li = new GenericList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.add("Hi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 li.get(0).charAt(0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previous line has synta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return type of get i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Object does not have a charA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compiler relies on declare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(String) li.get(0)).charAt(0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must cast to a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CC29-D3CF-449A-B7A9-78E668694BD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de Example – type check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7440" y="1143000"/>
            <a:ext cx="914184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pre: all elements of li are Monopol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Prices(GenericList li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 = 0; i &lt; li.size()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temp = (Property) li.get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temp.getPric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what happens if pre condition not m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3610-E744-4ADE-AD09-8F022BAABB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Fixing" the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6320" y="838080"/>
            <a:ext cx="914400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pre: all elements of li are Monopol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Prices(GenericList li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 = 0; i &lt; li.size()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GACK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li.get(i) instanceof Propert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temp = (Property) li.get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temp.getPric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44E3-F485-44BB-B191-0011D14755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 - Too Generic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code comp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icList list = new Generic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"Olivia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new Integer(12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12); // autobox aka autow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new Rectangle(1, 2, 3, 4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new GenericLis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2-09T18:24:15Z</dcterms:modified>
  <cp:revision>96</cp:revision>
  <dc:subject/>
  <dc:title>PowerPoint Presentation</dc:title>
</cp:coreProperties>
</file>