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EFCDA-46C7-4D99-A30E-BD1DA936F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6962-ADCB-4699-9A66-1D2BCDEFD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1DD-53FA-48EF-BEFC-B6DEA09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4B9-9ACB-467C-9B85-3A8A656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191-0895-4830-AA6C-5C72401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438-68A3-4191-9CCA-4756CE39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405-08FF-4A31-8850-9203382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270-7913-4098-ADF0-CDCF60E0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60-F31F-43E1-B718-BE33B10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A32-1A7F-4D8C-B32D-92BDB2F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04D-D510-46BF-95E7-E1FA407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894-6A90-4C6C-92C5-2AB720F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075-35D9-4196-8B51-83A895C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9C6-91D0-479C-A23C-C37270F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9C27-3E3D-4C7F-9322-929D093A3E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66D-2388-4B65-B7E8-AAE3ECC4F8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8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82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First things first, but not necessarily in that order 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Dr. 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410080" y="436896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258-B569-4373-901E-C0B9E576EE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2, prints out L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304812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3657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9FB-E617-495C-9D29-0110B1D1D0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3, prints out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4267080" y="380988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553C-125C-4BBE-86C7-83D538F919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4, prints out J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54864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6095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3E6-1DA4-4BD2-AA9A-8B0DDEA4D7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call to hasNext return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loop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54864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6095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C5F9-15B3-48FE-A478-A3450D18D3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ical Iterator Patte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All(Collection&lt;String&gt; co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&lt;String&gt; it = col.iterator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emp = it.nex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tem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Integer&gt; list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&lt;Integer&gt; it = list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it.nex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then a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C505-AE3B-41A9-A0DE-4443CE20921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71D1-E707-4CD1-8AF7-3B73C5DB72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remove thing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be called once per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WordsOfLength(int len) { Iterator&lt;String&gt; it = myList.it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tring temp = it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temp.length() == le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t.remov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original list = ["dog", "cat", "hat", "sat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sulting list 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WordsOfLength(3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982-9C1E-40E0-8F7F-E11491B893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Target(ArrayList&lt;String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, int le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it.hasNext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it.next().length() == 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names = ["Jan", "Ivan", "Tom", "George"]  and len = 3 what is output by the printTarget meth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n Ivan Tom Ge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n 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an Ge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B695-792B-4211-8FFC-B7293C288C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terable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ated interface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thod in the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Iterator&lt;T&gt; iterato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implement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 can be used in the for each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Integer&gt; lis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code to create and fill l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nt x : list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total +=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D25-728C-4192-87E3-22C881104B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b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imply want to go through all the elements of a Collection (or Iterable thing) use the for each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s creation of the It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AllOfLength(ArrayList&lt;String&gt; na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en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pre: names != null, names only contains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post: print out all elements of names 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length to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String s : nam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== 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BB0-E73B-4CE4-822E-E4993B07BF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 is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va Collections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terface that specifies the basic operations every collection (data structure) sha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llections don’t have a definit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, Maps,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cess all the items in a Collection with no specified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E91-5932-414E-9212-9A698C972F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n It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an Iterator for our GenericLis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precondition on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our GenricL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5943600" y="4467240"/>
            <a:ext cx="3164040" cy="23731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7598160" y="653580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ilyn L.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6B5-580E-475C-AF06-6DF6DD3F39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od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changed while an iteration via an iterator is in progress an Exception will be thrown the next tim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move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are called via the it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names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a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Andy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.next(); // exception occur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C94-BB75-4EEF-868C-E773144A10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rator object is a "one shot"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signed to go through all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a Collection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go through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a Collection again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get another iter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s are obtained by cal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from th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780240" y="1447920"/>
            <a:ext cx="2363760" cy="24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7613640" y="3657600"/>
            <a:ext cx="1530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9C4-7C05-4848-B879-829B1DA2F1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 Iterfac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terator interface 3 methods we will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has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turns true if this iteration has mor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 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turns the next element in this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pre: hast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re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Removes from the underlying collection the last element returned by the it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: This method can be called only once per call to next. After calling, must call next again before calling remove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produces a syntax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list = new ArrayList&lt;&gt;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1 = new Iterator(); //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2 = new Iterator(list); //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3 = list.iterator(); //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 and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I and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3B71-C66C-4EE4-BD20-CEBF756A6D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12E1-F9D0-4016-AA3E-7D8A023B639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 fence made up of fence posts and rail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83808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07000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30192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53384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76576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99768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8229600" y="322596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0520" y="504360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H="1" flipV="1">
            <a:off x="914400" y="48261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2133720" y="490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2819520" y="48261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V="1">
            <a:off x="3276720" y="48261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3276720" y="467316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276720" y="4673160"/>
            <a:ext cx="3581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3276720" y="4749480"/>
            <a:ext cx="4800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83808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83808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1"/>
          <p:cNvSpPr/>
          <p:nvPr/>
        </p:nvSpPr>
        <p:spPr>
          <a:xfrm>
            <a:off x="205740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 flipV="1">
            <a:off x="205740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3276720" y="34545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3276720" y="345420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457200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 flipV="1">
            <a:off x="457200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5791320" y="34545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5791320" y="345420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010280" y="34545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7010280" y="345420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4024440" y="1741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H="1">
            <a:off x="1752480" y="22860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H="1">
            <a:off x="2895480" y="23623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H="1">
            <a:off x="3962160" y="236232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4648320" y="236232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>
            <a:off x="4876920" y="2286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4952880" y="2057400"/>
            <a:ext cx="2667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6B29-81D8-4BA3-9934-F6F794C75D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rator lives on the fence p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n the collection are the 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 created at the far left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a rail exists to the right of the Iterator, hasNext()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9976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2296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7913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57913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70102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 flipV="1">
            <a:off x="70102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3"/>
          <p:cNvSpPr/>
          <p:nvPr/>
        </p:nvSpPr>
        <p:spPr>
          <a:xfrm>
            <a:off x="609480" y="388620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1219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1204560" y="349416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620-7F26-4B35-9D2D-1808AA175D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String&gt; names = new ArrayList&lt;&gt;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a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Levi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Tom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.add("Jos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&lt;String&gt; it = names.iterat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609480" y="3886200"/>
            <a:ext cx="60984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1219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C8F-A7FB-4457-B87D-60E6C03145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it.nex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en i == 1, prints out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83808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07000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330192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53384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765760" y="4419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83808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83808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0574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20574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76720" y="464832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276720" y="4647960"/>
            <a:ext cx="1218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572000" y="46483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4572000" y="464796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828800" y="3809880"/>
            <a:ext cx="609480" cy="4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072440" y="4379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Jan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"Levi"           "Tom"          "Jo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07520" y="3276720"/>
            <a:ext cx="53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all to next moves iterator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post and returns "Ja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09-16T15:32:56Z</cp:lastPrinted>
  <dcterms:modified xsi:type="dcterms:W3CDTF">2020-09-23T19:55:27Z</dcterms:modified>
  <cp:revision>97</cp:revision>
  <dc:subject/>
  <dc:title>PowerPoint Presentation</dc:title>
</cp:coreProperties>
</file>