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0DD5A-AAF6-40D3-B80F-B37FD1C39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B299B-52F9-41A9-9DC1-20F96EF50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393-4CA2-4A0D-B3B3-3B3B7274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9CC-66F2-4E9A-A834-43724899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721-2A4E-4DBB-82C2-31CE1640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562-D520-4753-AC1C-6946278A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3DA-E35C-4AE4-984D-495A0717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BB1-7141-4680-A1EE-B5009BFA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EC9-5D4D-40B1-82A5-B75A021D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611-4B26-4063-BD12-DD96BFFA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2B7-CBD0-4CC7-B608-315C3DB6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667-CC96-4389-A662-A67426B7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406-1453-4197-83C2-9D4E6E42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D46-3ED9-42AC-AC91-08AA718F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B4BE-910D-4159-8FF0-D9A89B3D2C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08CE-45E4-49BB-A96C-68BDEE7E0AE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8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133360"/>
            <a:ext cx="84582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First things first, but not necessarily in that order 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Dr. 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5410080" y="4368960"/>
            <a:ext cx="3733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DBFF-A3FF-46E6-A3F5-5FDE1413A86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it.next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en i == 2, prints out L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4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6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3048120" y="3809880"/>
            <a:ext cx="60948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36576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1072440" y="4379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Jan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"Levi"           "Tom"          "Jo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8BDA-3C88-4184-BFA2-F396D3681C2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it.next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en i == 3, prints out 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7"/>
          <p:cNvSpPr/>
          <p:nvPr/>
        </p:nvSpPr>
        <p:spPr>
          <a:xfrm>
            <a:off x="4267080" y="3809880"/>
            <a:ext cx="60984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48769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1072440" y="4379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Jan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"Levi"           "Tom"          "Jo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025B-8460-42A1-B3CB-08CDE1A9756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it.next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en i == 4, prints out J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7"/>
          <p:cNvSpPr/>
          <p:nvPr/>
        </p:nvSpPr>
        <p:spPr>
          <a:xfrm>
            <a:off x="5486400" y="3809880"/>
            <a:ext cx="60948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6095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1072440" y="4379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Jan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"Levi"           "Tom"          "Jo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AE2C-9D0B-49B4-9AD2-DC90473AA66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it.next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call to hasNext return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ile loop s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2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7"/>
          <p:cNvSpPr/>
          <p:nvPr/>
        </p:nvSpPr>
        <p:spPr>
          <a:xfrm>
            <a:off x="5486400" y="3809880"/>
            <a:ext cx="60948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>
            <a:off x="6095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1072440" y="4379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Jan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"Levi"           "Tom"          "Jo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A3F1-BCAA-412B-BC47-64C62D6CADD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ypical Iterator Patter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printAll(Collection&lt;String&gt; col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&lt;String&gt; it = col.iterator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temp = it.nex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tem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Integer&gt; list = new ArrayList&lt;&gt;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or&lt;Integer&gt; it = list.iterat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it.next()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it.next()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it.next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B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3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C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3 3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D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3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E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3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then a runtim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AEB4-BE5B-4AF3-92D9-9993EC52CCE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F117-C138-4F0B-ABD8-9CEC7D8EC86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move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used to remove things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nly be called once per cal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WordsOfLength(int len) { Iterator&lt;String&gt; it = myList.it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String temp = it.nex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temp.length() == len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it.remov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original list = ["dog", "cat", "hat", "sat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resulting list 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WordsOfLength(3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01EB-5628-4C30-BBE2-37C1362EB4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printTarget(ArrayList&lt;String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, int le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&lt;String&gt; it = names.iterat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it.hasNext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it.next().length() == l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it.next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names = ["Jan", "Ivan", "Tom", "George"]  and len = 3 what is output by the printTarget meth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an Ivan Tom Ge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an 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van Ge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syntax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runtim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637C-C33A-4471-A2A5-5B50DB08830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terable Interf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lated interface i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t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ethod in the inter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Iterator&lt;T&gt; iterato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that implement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face can be used in the for each 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&lt;Integer&gt; lis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code to create and fill li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 (int x : list)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total += 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C7CC-DADF-4424-851A-A6AD23B5E8E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b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imply want to go through all the elements of a Collection (or Iterable thing) use the for each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s creation of the It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AllOfLength(ArrayList&lt;String&gt; nam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len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pre: names != null, names only contains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post: print out all elements of names equ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length to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String s : nam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== 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C0E3-F36D-4C2E-8DEC-9DE7F626370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List is part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ava Collections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interface that specifies the basic operations every collection (data structure) shall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llections don’t have a definit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, Maps,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ccess all the items in a Collection with no specified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019B-F895-462F-BD10-E29D1B70AE7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ing an Iterat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an Iterator for our GenericLis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encap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ing precondition on 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our GenricLi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tera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5943600" y="4467240"/>
            <a:ext cx="3164040" cy="23731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"/>
          <p:cNvSpPr/>
          <p:nvPr/>
        </p:nvSpPr>
        <p:spPr>
          <a:xfrm>
            <a:off x="7598160" y="653580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dilyn L.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13FE-6D90-478D-8434-0DDB032D7BF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odific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changed while an iteration via an iterator is in progress an Exception will be thrown the next tim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ex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move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s are called via the it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String&gt; names = new ArrayList&lt;&gt;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.add("Ja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&lt;String&gt; it = names.iterat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.add("Andy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.next(); // exception occur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BACE-A056-49C4-B617-3A9D3710A3D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tor Interf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terator object is a "one shot"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esigned to go through all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of a Collection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go through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of a Collection again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get another iterat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ors are obtained by call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hod from th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780240" y="1447920"/>
            <a:ext cx="2363760" cy="245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7613640" y="3657600"/>
            <a:ext cx="15303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09B0-8A09-4E0D-8733-6FFAA72220E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tor Iterface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terator interface 3 methods we will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hasNex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returns true if this iteration has mor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 nex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returns the next element in this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pre: hastNex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re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Removes from the underlying collection the last element returned by the it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: This method can be called only once per call to next. After calling, must call next again before calling remove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produces a syntax err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String&gt; list = new ArrayList&lt;&gt;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&lt;String&gt; it1 = new Iterator(); //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&lt;String&gt; it2 = new Iterator(list); // 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&lt;String&gt; it3 = list.iterator(); //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B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C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D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 and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E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I and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74E5-D8D1-42E6-A759-D3521BFAD3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A632-A3E7-4FE2-8474-83F7F321CDB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t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a fence made up of fence posts and rail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83808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07000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30192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453384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76576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99768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822960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80520" y="504360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nce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 flipH="1" flipV="1">
            <a:off x="914400" y="482616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2133720" y="490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 flipV="1">
            <a:off x="2819520" y="482616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 flipV="1">
            <a:off x="3276720" y="482616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3276720" y="467316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276720" y="4673160"/>
            <a:ext cx="3581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3276720" y="4749480"/>
            <a:ext cx="4800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9"/>
          <p:cNvSpPr/>
          <p:nvPr/>
        </p:nvSpPr>
        <p:spPr>
          <a:xfrm>
            <a:off x="838080" y="34545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838080" y="345420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1"/>
          <p:cNvSpPr/>
          <p:nvPr/>
        </p:nvSpPr>
        <p:spPr>
          <a:xfrm>
            <a:off x="2057400" y="34545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 flipV="1">
            <a:off x="2057400" y="345420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3276720" y="34545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 flipV="1">
            <a:off x="3276720" y="345420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"/>
          <p:cNvSpPr/>
          <p:nvPr/>
        </p:nvSpPr>
        <p:spPr>
          <a:xfrm>
            <a:off x="4572000" y="34545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 flipV="1">
            <a:off x="4572000" y="345420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5791320" y="34545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 flipV="1">
            <a:off x="5791320" y="345420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7010280" y="34545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 flipV="1">
            <a:off x="7010280" y="345420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4024440" y="174132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 flipH="1">
            <a:off x="1752480" y="228600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 flipH="1">
            <a:off x="2895480" y="236232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 flipH="1">
            <a:off x="3962160" y="236232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>
            <a:off x="4648320" y="236232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6"/>
          <p:cNvSpPr/>
          <p:nvPr/>
        </p:nvSpPr>
        <p:spPr>
          <a:xfrm>
            <a:off x="4876920" y="22860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7"/>
          <p:cNvSpPr/>
          <p:nvPr/>
        </p:nvSpPr>
        <p:spPr>
          <a:xfrm>
            <a:off x="4952880" y="2057400"/>
            <a:ext cx="2667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2AD6-5AFE-498D-BB7B-B271AE73218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terator lives on the fence p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in the collection are the r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or created at the far left 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ng as a rail exists to the right of the Iterator, hasNext()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69976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82296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57913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57913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70102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 flipV="1">
            <a:off x="70102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3"/>
          <p:cNvSpPr/>
          <p:nvPr/>
        </p:nvSpPr>
        <p:spPr>
          <a:xfrm>
            <a:off x="609480" y="3886200"/>
            <a:ext cx="60984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12193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1204560" y="3494160"/>
            <a:ext cx="23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6B35-C9EE-43F2-9852-BD150C29E86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String&gt; names = new ArrayList&lt;&gt;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.add("Ja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.add("Levi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.add("Tom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.add("Jose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&lt;String&gt; it = names.iterat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7"/>
          <p:cNvSpPr/>
          <p:nvPr/>
        </p:nvSpPr>
        <p:spPr>
          <a:xfrm>
            <a:off x="609480" y="3886200"/>
            <a:ext cx="60984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12193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072440" y="4379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Jan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"Levi"           "Tom"          "Jo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8BE9-1B61-46E8-AAD1-7FCD5B0AA1E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it.next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en i == 1, prints out J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1828800" y="3809880"/>
            <a:ext cx="60948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072440" y="4379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Jan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"Levi"           "Tom"          "Jo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107520" y="3276720"/>
            <a:ext cx="53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all to next moves iterator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post and returns "Ja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cp:lastPrinted>2011-09-16T15:32:56Z</cp:lastPrinted>
  <dcterms:modified xsi:type="dcterms:W3CDTF">2020-09-23T19:55:27Z</dcterms:modified>
  <cp:revision>97</cp:revision>
  <dc:subject/>
  <dc:title>PowerPoint Presentation</dc:title>
</cp:coreProperties>
</file>