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3E0A-CD63-454E-A4F0-BD3152728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617C-05D5-4CEE-875F-527025748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C3C-4147-4784-A848-56245DA0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3A3-D90C-407C-81CC-6B8FBA5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59C-AEEE-49F5-9801-9C2495E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8A0-9244-4F6C-900B-BDB5E5EA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F7E-CFE1-4A35-9D20-A394321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4EC-35C5-4109-BC59-567FA9ED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2F4-8E7F-44FA-B474-40F3459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5B7-2E52-4CDF-8FBD-DD073B4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113-FD0A-443C-A85F-C9FA3B2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8AD-B14F-4A8E-8E19-E55B7B4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20B-387E-4B74-BCB3-48C2EBA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C84-CDBA-44C8-9524-C64D44C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90C-A3B2-4224-97C0-D3BCDBA43C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522-6AF7-4396-ADDB-DA51FB11F7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9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Ma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"He's off the map!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 (Mark Ruffalo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nal Sunshine of the Spotles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045120" y="4648320"/>
            <a:ext cx="2946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quired that the keys and values of a map be the same data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DF69-6AB9-415B-B932-60D67D9AE1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p &lt;String, List&lt;String&gt;&gt;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46D2-2BA1-4125-8C05-7535D6028E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762120"/>
          <a:ext cx="8991360" cy="6010200"/>
        </p:xfrm>
        <a:graphic>
          <a:graphicData uri="http://schemas.openxmlformats.org/drawingml/2006/table">
            <a:tbl>
              <a:tblPr/>
              <a:tblGrid>
                <a:gridCol w="2697120"/>
                <a:gridCol w="629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zard of O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othy, Toto, Scarecrow, Tin Man, Cowardly 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M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y Stark, Pepper Potts, Phil Coulson, Obadiah Sta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de and Prejud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Bennet, Jane Bennet, Mr. Darcy, Mr. Bingl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veng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y Stark, Pepper Potts, Steve Rogers, Bruce Bann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 and Sensi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nor Dashwood, Marianne Dashwood, Edward Ferrars, John Willoughby, Colonel 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FA28-B387-4DF2-B6F3-F89CFAFD6C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ap&lt;K, V&gt; Interface in Java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cle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all mappings from this map (optional ope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containsKey(Object ke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rue if this map contains a mapping for the specified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containsValue(Object val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rue if this map maps one or more keys to the specified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&lt;K&gt; keySet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Set view of the keys contained in this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5F77-B44B-4524-8DDC-332FD850A5F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ap Interface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(Object 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value to which this map maps the specified key. Returns null if key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 isEmpty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rue if this map contains no key-value mapp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 put(K key, V val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s the specified value with the specified key in this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310-B4A5-4A47-9715-870A92CE07F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ap Interface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remove(Object ke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mapping for this key from this map if it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siz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number of key-value mappings in this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llection&lt;V&gt; value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 collection view of the values contained in this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 with HashMa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C6A5-5688-4CC2-BDEF-D61F52BB36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219320"/>
          <a:ext cx="8763120" cy="3458880"/>
        </p:xfrm>
        <a:graphic>
          <a:graphicData uri="http://schemas.openxmlformats.org/drawingml/2006/table">
            <a:tbl>
              <a:tblPr/>
              <a:tblGrid>
                <a:gridCol w="2152800"/>
                <a:gridCol w="1076400"/>
                <a:gridCol w="1460520"/>
                <a:gridCol w="1766880"/>
                <a:gridCol w="1154160"/>
                <a:gridCol w="1152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0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4" name="Date Placeholder 7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d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457-D4CA-4536-873C-7890DAF028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640" y="1143000"/>
          <a:ext cx="8897760" cy="3978360"/>
        </p:xfrm>
        <a:graphic>
          <a:graphicData uri="http://schemas.openxmlformats.org/drawingml/2006/table">
            <a:tbl>
              <a:tblPr/>
              <a:tblGrid>
                <a:gridCol w="1950840"/>
                <a:gridCol w="1079640"/>
                <a:gridCol w="1447560"/>
                <a:gridCol w="1676520"/>
                <a:gridCol w="1371600"/>
                <a:gridCol w="13716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6"/>
          <p:cNvSpPr/>
          <p:nvPr/>
        </p:nvSpPr>
        <p:spPr>
          <a:xfrm>
            <a:off x="525600" y="524520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Total Word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7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array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determine the frequency of all the words in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7B6-8F05-4167-8706-9FCCA251F9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formance using Array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7AC-750E-4DCD-9676-8D44BD9396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295280"/>
          <a:ext cx="8229600" cy="371808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676160"/>
                <a:gridCol w="1689120"/>
                <a:gridCol w="14353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e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1" name="Date Placeholder 6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d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hange in size as factor of previou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444-E555-4B4E-AF7E-BBC8598EC9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371600"/>
          <a:ext cx="8229600" cy="371808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676160"/>
                <a:gridCol w="1689120"/>
                <a:gridCol w="14353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7" name="TextBox 7"/>
          <p:cNvSpPr/>
          <p:nvPr/>
        </p:nvSpPr>
        <p:spPr>
          <a:xfrm>
            <a:off x="534960" y="5245200"/>
            <a:ext cx="57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Total Words * Distinct Words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8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 minutes for the 2008 CIA Factbook with 1,330,100 total words and  74,042 distinct words, how long for 1,000x total words and  100x distinct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CAD9-C5FE-42C6-9335-F3B9A4E538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So Slow?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ntains method for an array based 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indexOf(Object o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310-A10B-4FB9-AD7C-0CDA8D5A65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690-8807-47B6-BA1F-AB95880C12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aster Way - Ma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, search table, dictionary, associative array, or associativ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optimized for a very specific kind of search /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access by asking "give m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ociated with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10B-8FA0-40D6-B865-89941FFAD92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s and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 Analog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dictionary is a word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dictionary is the definition: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st on the standard list of metasyntactic variables used in syntax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and its associated value form a pair that is stored i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trieve a value the key for that value must be su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can be viewed as a Map with intege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19047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198D-4B4F-4250-966D-293724BC3E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Keys and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 must be unique, meaning a given key can only represent on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e value may be represented by multip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ynonyms in the dictionar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tor: n.See coefficient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 associated with the same value (definition) as the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fficient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09-16T15:32:56Z</cp:lastPrinted>
  <dcterms:modified xsi:type="dcterms:W3CDTF">2021-02-25T18:14:54Z</dcterms:modified>
  <cp:revision>96</cp:revision>
  <dc:subject/>
  <dc:title>PowerPoint Presentation</dc:title>
</cp:coreProperties>
</file>