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4C301-CC39-44DE-8C2A-1B7EA6370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AEC1-D78B-41CF-A59A-F40A43952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8DF-387E-47B9-AB3A-9AD14E4D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470-52B4-43F4-A09B-6B6FFF3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B48-1713-4D71-8E32-DBBF84FA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556-7D0F-4BD1-B5ED-EE58E3BB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2EF-F2A2-450A-9DBE-A80386F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0EA-835C-4DFB-91E4-D2D573C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178-C139-4E7E-A7FB-6B0F688B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BB4-E697-4729-B406-3F035E6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D48-2E57-41B3-8F75-8C9C0C4E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649-2583-41BE-871F-8BBEC7DF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40A-3C73-4551-BE9C-CFD84C3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F73-A7EF-44DA-8FB9-BE20669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3F4C-1BD6-4EB0-847A-D0128D4542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F48-81E6-4B9C-8FB5-A2E81A16F8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9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Ma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"He's off the map!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 (Mark Ruffalo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nal Sunshine of the Spotles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045120" y="4648320"/>
            <a:ext cx="2946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quired that the keys and values of a map be the same data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A3F-645A-4B89-B54E-9DFDC0C2DB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p &lt;String, List&lt;String&gt;&gt;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451C-F89B-478F-9F58-C578C759026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762120"/>
          <a:ext cx="8991360" cy="6010200"/>
        </p:xfrm>
        <a:graphic>
          <a:graphicData uri="http://schemas.openxmlformats.org/drawingml/2006/table">
            <a:tbl>
              <a:tblPr/>
              <a:tblGrid>
                <a:gridCol w="2697120"/>
                <a:gridCol w="629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zard of O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othy, Toto, Scarecrow, Tin Man, Cowardly 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M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y Stark, Pepper Potts, Phil Coulson, Obadiah Sta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de and Prejud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Bennet, Jane Bennet, Mr. Darcy, Mr. Bingl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veng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y Stark, Pepper Potts, Steve Rogers, Bruce Bann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 and Sensi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nor Dashwood, Marianne Dashwood, Edward Ferrars, John Willoughby, Colonel 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5522-3156-4F60-9718-281C599E7D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ap&lt;K, V&gt; Interface in Java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 cle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all mappings from this map (optional ope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containsKey(Object ke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rue if this map contains a mapping for the specified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containsValue(Object val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rue if this map maps one or more keys to the specified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&lt;K&gt; keySet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Set view of the keys contained in this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AF2B-8106-42FC-97E8-BFEC0BF812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ap Interface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(Object 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value to which this map maps the specified key. Returns null if key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 isEmpty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rue if this map contains no key-value mapp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 put(K key, V val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s the specified value with the specified key in this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58CF-3C40-440E-B75B-223CDC407C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ap Interface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remove(Object ke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mapping for this key from this map if it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siz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number of key-value mappings in this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llection&lt;V&gt; value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 collection view of the values contained in this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 with HashMa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8A9-9F34-4F06-9E46-A7CA04B1EE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219320"/>
          <a:ext cx="8763120" cy="3458880"/>
        </p:xfrm>
        <a:graphic>
          <a:graphicData uri="http://schemas.openxmlformats.org/drawingml/2006/table">
            <a:tbl>
              <a:tblPr/>
              <a:tblGrid>
                <a:gridCol w="2152800"/>
                <a:gridCol w="1076400"/>
                <a:gridCol w="1460520"/>
                <a:gridCol w="1766880"/>
                <a:gridCol w="1154160"/>
                <a:gridCol w="1152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0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4" name="Date Placeholder 7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d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B37-CDD2-4567-90AE-66FBCDC48A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640" y="1143000"/>
          <a:ext cx="8897760" cy="3978360"/>
        </p:xfrm>
        <a:graphic>
          <a:graphicData uri="http://schemas.openxmlformats.org/drawingml/2006/table">
            <a:tbl>
              <a:tblPr/>
              <a:tblGrid>
                <a:gridCol w="1950840"/>
                <a:gridCol w="1079640"/>
                <a:gridCol w="1447560"/>
                <a:gridCol w="1676520"/>
                <a:gridCol w="1371600"/>
                <a:gridCol w="13716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6"/>
          <p:cNvSpPr/>
          <p:nvPr/>
        </p:nvSpPr>
        <p:spPr>
          <a:xfrm>
            <a:off x="525600" y="524520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Total Word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7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array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determine the frequency of all the words in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85EF-3AFD-4A39-8538-D177765A87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formance using Array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D95-B03C-4033-9C16-F27DAA2A09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295280"/>
          <a:ext cx="8229600" cy="371808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676160"/>
                <a:gridCol w="1689120"/>
                <a:gridCol w="14353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e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5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0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1" name="Date Placeholder 6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d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hange in size as factor of previou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BD5-639E-434F-8B87-B10F41E753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371600"/>
          <a:ext cx="8229600" cy="371808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676160"/>
                <a:gridCol w="1689120"/>
                <a:gridCol w="14353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nct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R0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in Won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s of Sherlock Hol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CIA Fac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7" name="TextBox 7"/>
          <p:cNvSpPr/>
          <p:nvPr/>
        </p:nvSpPr>
        <p:spPr>
          <a:xfrm>
            <a:off x="534960" y="5245200"/>
            <a:ext cx="57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Total Words * Distinct Words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8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 minutes for the 2008 CIA Factbook with 1,330,100 total words and  74,042 distinct words, how long for 1,000x total words and  100x distinct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220-6C85-4514-A38B-CD9FF9B1ED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So Slow?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ntains method for an array based 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indexOf(Object o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025F-302B-410B-BC35-5A2D7DE048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5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9756-0B98-4672-9CE8-5E5DE31787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aster Way - Ma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, search table, dictionary, associative array, or associativ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optimized for a very specific kind of search /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access by asking "give m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ociated with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624-95BD-42DC-8EEB-68387C5869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s and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 Analog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dictionary is a word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dictionary is the definition: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st on the standard list of metasyntactic variables used in syntax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and its associated value form a pair that is stored i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trieve a value the key for that value must be su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can be viewed as a Map with intege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19047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FCA-BED7-4857-9C44-DC96A7F700F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Keys and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 must be unique, meaning a given key can only represent on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e value may be represented by multip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ynonyms in the dictionar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tor: n.See coefficient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 associated with the same value (definition) as the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fficient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09-16T15:32:56Z</cp:lastPrinted>
  <dcterms:modified xsi:type="dcterms:W3CDTF">2021-02-25T18:14:54Z</dcterms:modified>
  <cp:revision>96</cp:revision>
  <dc:subject/>
  <dc:title>PowerPoint Presentation</dc:title>
</cp:coreProperties>
</file>